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_rels/notesSlide7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notesSlide65.xml" ContentType="application/vnd.openxmlformats-officedocument.presentationml.notesSlide+xml"/>
  <Override PartName="/ppt/notesSlides/notesSlide7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gif" ContentType="image/gif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  <p:sldId id="313" r:id="rId67"/>
    <p:sldId id="314" r:id="rId68"/>
    <p:sldId id="315" r:id="rId69"/>
    <p:sldId id="316" r:id="rId70"/>
    <p:sldId id="317" r:id="rId71"/>
    <p:sldId id="318" r:id="rId72"/>
    <p:sldId id="319" r:id="rId73"/>
    <p:sldId id="320" r:id="rId74"/>
    <p:sldId id="321" r:id="rId75"/>
    <p:sldId id="322" r:id="rId76"/>
    <p:sldId id="323" r:id="rId77"/>
    <p:sldId id="324" r:id="rId78"/>
    <p:sldId id="325" r:id="rId79"/>
    <p:sldId id="326" r:id="rId80"/>
    <p:sldId id="327" r:id="rId81"/>
    <p:sldId id="328" r:id="rId82"/>
    <p:sldId id="329" r:id="rId83"/>
    <p:sldId id="330" r:id="rId84"/>
    <p:sldId id="331" r:id="rId85"/>
    <p:sldId id="332" r:id="rId86"/>
    <p:sldId id="333" r:id="rId87"/>
    <p:sldId id="334" r:id="rId8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slide" Target="slides/slide58.xml"/><Relationship Id="rId68" Type="http://schemas.openxmlformats.org/officeDocument/2006/relationships/slide" Target="slides/slide59.xml"/><Relationship Id="rId69" Type="http://schemas.openxmlformats.org/officeDocument/2006/relationships/slide" Target="slides/slide60.xml"/><Relationship Id="rId70" Type="http://schemas.openxmlformats.org/officeDocument/2006/relationships/slide" Target="slides/slide61.xml"/><Relationship Id="rId71" Type="http://schemas.openxmlformats.org/officeDocument/2006/relationships/slide" Target="slides/slide62.xml"/><Relationship Id="rId72" Type="http://schemas.openxmlformats.org/officeDocument/2006/relationships/slide" Target="slides/slide63.xml"/><Relationship Id="rId73" Type="http://schemas.openxmlformats.org/officeDocument/2006/relationships/slide" Target="slides/slide64.xml"/><Relationship Id="rId74" Type="http://schemas.openxmlformats.org/officeDocument/2006/relationships/slide" Target="slides/slide65.xml"/><Relationship Id="rId75" Type="http://schemas.openxmlformats.org/officeDocument/2006/relationships/slide" Target="slides/slide66.xml"/><Relationship Id="rId76" Type="http://schemas.openxmlformats.org/officeDocument/2006/relationships/slide" Target="slides/slide67.xml"/><Relationship Id="rId77" Type="http://schemas.openxmlformats.org/officeDocument/2006/relationships/slide" Target="slides/slide68.xml"/><Relationship Id="rId78" Type="http://schemas.openxmlformats.org/officeDocument/2006/relationships/slide" Target="slides/slide69.xml"/><Relationship Id="rId79" Type="http://schemas.openxmlformats.org/officeDocument/2006/relationships/slide" Target="slides/slide70.xml"/><Relationship Id="rId80" Type="http://schemas.openxmlformats.org/officeDocument/2006/relationships/slide" Target="slides/slide71.xml"/><Relationship Id="rId81" Type="http://schemas.openxmlformats.org/officeDocument/2006/relationships/slide" Target="slides/slide72.xml"/><Relationship Id="rId82" Type="http://schemas.openxmlformats.org/officeDocument/2006/relationships/slide" Target="slides/slide73.xml"/><Relationship Id="rId83" Type="http://schemas.openxmlformats.org/officeDocument/2006/relationships/slide" Target="slides/slide74.xml"/><Relationship Id="rId84" Type="http://schemas.openxmlformats.org/officeDocument/2006/relationships/slide" Target="slides/slide75.xml"/><Relationship Id="rId85" Type="http://schemas.openxmlformats.org/officeDocument/2006/relationships/slide" Target="slides/slide76.xml"/><Relationship Id="rId86" Type="http://schemas.openxmlformats.org/officeDocument/2006/relationships/slide" Target="slides/slide77.xml"/><Relationship Id="rId87" Type="http://schemas.openxmlformats.org/officeDocument/2006/relationships/slide" Target="slides/slide78.xml"/><Relationship Id="rId88" Type="http://schemas.openxmlformats.org/officeDocument/2006/relationships/slide" Target="slides/slide79.xml"/><Relationship Id="rId8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BD5A9-86AD-49A8-B624-31F171C1E5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CE788-76EE-4CD5-B758-B473F6666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040" y="5791320"/>
            <a:ext cx="264636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3A62E-E2E8-4DEC-8E27-54B889AA7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040" y="5791320"/>
            <a:ext cx="264636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F557D-5842-4331-A644-5E3CC381EC70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F5CD1-657B-43FB-87EB-43A51E301127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91D25-3692-427E-A40C-6502E97DA833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6BE11-A8D9-41CE-96CD-9BA0957AE3FD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6AD0D-4651-4F85-9DD8-E53B33D6DD16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97C93-F81F-4E45-AC6C-A7D0732E3845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AD6F0-8003-49F7-B8E0-7FBD9B227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F08FE-8FA9-43DC-850F-C5F244EB7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848F1-4376-4CEE-A3BC-7EDB422CCFE2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931E1-FA4C-4627-ACB6-6C35CD1969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964C-32B6-4458-B605-FDABCCADA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696E-B812-4D4F-9324-3F4C41D90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30A9-D379-4A9D-9E30-EEA8E5231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F95A-CB60-4457-86C7-9F4451D77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2C85F-798F-4B49-AFD3-ABD41F1FD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A982A-AC54-452C-853D-C9D6E666A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749E9-1C2F-4F46-99E2-E97CEC5F1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16F79-584B-4767-9278-FD83C801A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CDD7F-B5C0-453D-BC89-4ACC812DC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C4890-AAD0-4F9C-8E73-692CB25F7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08D37-2FA8-460B-B6EA-08CD649C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4CF3-760B-4EB4-A9E2-778BA43EF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E4B98-44D9-4129-82B3-7E6C3FFD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630D0-8DA1-4A22-B505-BF50B2ED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0926F-8245-4449-A92D-04C0CFDBC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F814E-A552-498D-8F93-7E57774F8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0EC59-1B2A-4FA6-AA02-3356F1862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A3E70-768F-4ED6-8F05-494FDA902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45121-A46C-4EAA-82FE-DD4948B43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BF68D-6069-4251-97E3-7BB627C9C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9C76E-0133-491E-90F9-9A3676F79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28816-FED2-4C33-BD8F-A97CB755F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2703-1DFB-48C0-BA63-4BFD0F31E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925AF-7D30-49F8-ABB0-84788FA20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A30CB-7B13-4B95-B41A-64C7AAD4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0FEF8-70BB-4858-9B8B-31A5F185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B9C8C-71D6-47EB-9D40-579D97E6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3D0D7-BD52-45C5-87F1-9EB623AE2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78389-360F-499F-8DED-18975ADB7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F8332-E0CA-49A7-9B3C-D1FFB690E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68AB6-0879-4BE5-A29B-34E490FCE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F00CC-E6CA-4393-9587-DD0708F28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187B5-ED0B-4CDE-8ACB-88687DA7E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7F96-D18C-4043-BCF4-EA53B5115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7276D-AB6C-41BC-B6D0-71CC2F2D9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72DD5-709A-4F60-897F-B8EEF66EB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E3432-73C1-4704-AE90-C44659265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B70DD-B256-486F-BD9A-E42BED48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BA59A-0E22-4758-B961-0920DA10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5BD62-E41D-4FB3-961D-81E5EE82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06C6F-029A-42E4-AFB0-02BD02ED8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AEF8A-DA8A-485F-A0C0-2971E857B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F585F-3CED-4850-95FE-8CE6140E1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585E0-F614-4E77-B8CE-E91F91A5D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A847-DE1B-4914-A9F9-59C291884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37121-9526-41F2-B0D4-42D6BC5E0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2C08E-171D-4BDB-9FB5-4A5069443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827C7-586E-4AFD-9DAD-E145BA5D2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7818F-9BA4-4151-A907-568919D75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9E84F-CE3E-4A92-84C1-D2AC4EA83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82EB2-703D-49D7-BC5E-6F0F1EBB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4C1BB-B984-4FBB-8367-28E50AE6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456E1-21BF-4210-AD30-466A1694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F40CC-1C17-4481-84B9-47C1D133F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E74AA-1B07-424F-AD8C-E137ACF9F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F728-2C42-4D4F-8E06-61DF6626A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9C38F-93DE-4915-B804-F05DCDC3B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7763DE-9ED9-4CE2-9D73-868A727A8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F2051-98A1-4E69-A677-37465D53A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C71D7-F165-4A14-8E0D-EFE902645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FB95D-10C1-4BF6-9D5B-0F4417B9D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256CA-70C0-4D0A-8443-13A24BF8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AE8392-7E92-4701-AD5D-1F9E95877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71538-243B-4E89-9551-CE06635E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01529-5956-41AE-9460-182D49FC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708D9-0204-4B45-A3D0-074F7D36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BA17-DDDC-4AD1-B41A-ADD7B8D6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8A96E-F7AA-44ED-8621-9D9B6ACDA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F140F-C260-48B3-BBCA-73190CFF4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B0C8B-0A0F-420C-9728-43E93B41A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F08D9E-1D53-4D9D-B272-6C2EF1A54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68A3F6-47F3-4B01-A155-06E95698A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1484C-37A4-41EB-9EA0-DFA1F163B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DC274-674E-4FB3-B93C-5C2F05434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80298-2B4B-4A6B-91CE-F8FC91772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6F4F28-F47E-4FAB-9277-61F3C8E7B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0A7924-C246-4BEC-8E91-A5717553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7A0C-B6E7-4DBB-8D2F-9C8180A0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BAFFF-5BB1-4E11-8C92-5B9FCDAB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EA9DA-935F-4500-A6EE-72458A5E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984F4-25C6-4649-B0DB-D5C2CF9FC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8F44BD-48EB-4DFD-8E41-D8A7CE0C6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E8F65A-1E63-4F71-9567-4EED18331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2A60-ADC5-4A7E-87B6-00B387AB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EF216-4FEB-4002-A99A-9D21EB3B12B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F2C78-BE44-48A2-9138-544192A40AD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461BB-8CEC-45FA-847F-6C6D7C5F7B2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314FF-874F-4621-A70F-0D386C9E28B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50BF0-9F2B-4578-A052-288847E56DD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AADCD-DE45-44B4-8E5B-6822AB73011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02110-9CC4-428F-913D-3EC10ED0739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49.xml"/><Relationship Id="rId1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49.xml"/><Relationship Id="rId7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49.xml"/><Relationship Id="rId1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49.xml"/><Relationship Id="rId11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49.xml"/><Relationship Id="rId10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49.xml"/><Relationship Id="rId7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49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49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4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4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9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4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49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4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9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49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49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9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66320" y="1941120"/>
            <a:ext cx="8077320" cy="35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572314"/>
                </a:solidFill>
                <a:latin typeface="Arial"/>
                <a:ea typeface="Arial"/>
              </a:rPr>
              <a:t>ИНТЕГРИСАНЕ АКАДЕМСКЕ СТУДИЈЕ </a:t>
            </a:r>
            <a:r>
              <a:rPr b="1" lang="sr-RS" sz="2000" spc="-1" strike="noStrike">
                <a:solidFill>
                  <a:srgbClr val="572314"/>
                </a:solidFill>
                <a:latin typeface="Arial"/>
                <a:ea typeface="Arial"/>
              </a:rPr>
              <a:t>ФАРМАЦИЈЕ</a:t>
            </a:r>
            <a:br>
              <a:rPr sz="1800"/>
            </a:br>
            <a:r>
              <a:rPr b="1" lang="ru-RU" sz="1800" spc="-1" strike="noStrike">
                <a:solidFill>
                  <a:srgbClr val="4f271c"/>
                </a:solidFill>
                <a:latin typeface="Arial"/>
                <a:ea typeface="Arial"/>
              </a:rPr>
              <a:t>КЛИНИЧКА ПРОПЕДЕВТИКА ЗА ФАРМАЦЕУТЕ</a:t>
            </a:r>
            <a:br>
              <a:rPr sz="1800"/>
            </a:br>
            <a:br>
              <a:rPr sz="2000"/>
            </a:br>
            <a:br>
              <a:rPr sz="1800"/>
            </a:br>
            <a:br>
              <a:rPr sz="1800"/>
            </a:br>
            <a:r>
              <a:rPr b="1" lang="sr-CS" sz="1800" spc="-1" strike="noStrike">
                <a:solidFill>
                  <a:srgbClr val="572314"/>
                </a:solidFill>
                <a:latin typeface="Arial"/>
                <a:ea typeface="Arial"/>
              </a:rPr>
              <a:t>наставна јединица </a:t>
            </a:r>
            <a:r>
              <a:rPr b="1" lang="en-US" sz="1800" spc="-1" strike="noStrike">
                <a:solidFill>
                  <a:srgbClr val="572314"/>
                </a:solidFill>
                <a:latin typeface="Arial"/>
                <a:ea typeface="Arial"/>
              </a:rPr>
              <a:t>8</a:t>
            </a:r>
            <a:br>
              <a:rPr sz="1800"/>
            </a:br>
            <a:br>
              <a:rPr sz="1800"/>
            </a:br>
            <a:r>
              <a:rPr b="1" lang="sr-CS" sz="3200" spc="-1" strike="noStrike">
                <a:solidFill>
                  <a:srgbClr val="ff0000"/>
                </a:solidFill>
                <a:latin typeface="Arial"/>
                <a:ea typeface="Arial"/>
              </a:rPr>
              <a:t>Болести штитасте жлезде </a:t>
            </a:r>
            <a:br>
              <a:rPr sz="3200"/>
            </a:br>
            <a:r>
              <a:rPr b="1" lang="sr-CS" sz="3200" spc="-1" strike="noStrike">
                <a:solidFill>
                  <a:srgbClr val="ff0000"/>
                </a:solidFill>
                <a:latin typeface="Arial"/>
                <a:ea typeface="Arial"/>
              </a:rPr>
              <a:t>Хипертиреоза и хипотиреоза</a:t>
            </a:r>
            <a:br>
              <a:rPr sz="3200"/>
            </a:br>
            <a:r>
              <a:rPr b="1" lang="sr-CS" sz="3200" spc="-1" strike="noStrike">
                <a:solidFill>
                  <a:srgbClr val="ff0000"/>
                </a:solidFill>
                <a:latin typeface="Arial"/>
                <a:ea typeface="Arial"/>
              </a:rPr>
              <a:t>Запаљенски процеси штитасте жлезде</a:t>
            </a:r>
            <a:br>
              <a:rPr sz="3200"/>
            </a:br>
            <a:br>
              <a:rPr sz="3900"/>
            </a:b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34960" y="4247640"/>
            <a:ext cx="770904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320e04"/>
                </a:solidFill>
                <a:latin typeface="Arial"/>
                <a:ea typeface="Arial"/>
              </a:rPr>
              <a:t>Доц. др Виолета Младеновић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320e04"/>
                </a:solidFill>
                <a:latin typeface="Arial"/>
                <a:ea typeface="Arial"/>
              </a:rPr>
              <a:t>Интерниста-ендокринолог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STRUMA DIFUSA SIMPLEX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990720" y="137124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Клиничка слика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ојава струме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Компресивни ефекти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Трахеја (сув, надражајни кашаљ, диспнеја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емберт-ов зна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 погоршање диспнеје код подизања руку, стридор), Једњак (дисфагија), Н. Р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уренс (промуклост),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летора (компресија на вене врата)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ијагноз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реглед (инспекција и палпација)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Ултразвучни преглед (диф.дг. нодозне и дифузне струме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фТ4, ТСХ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ff0000"/>
                </a:solidFill>
                <a:latin typeface="Arial"/>
                <a:ea typeface="Arial"/>
              </a:rPr>
              <a:t>STRUMA NODOSA (uninodosa, pol</a:t>
            </a:r>
            <a:r>
              <a:rPr b="1" i="1" lang="sr-Latn-RS" sz="2900" spc="-1" strike="noStrike">
                <a:solidFill>
                  <a:srgbClr val="ff0000"/>
                </a:solidFill>
                <a:latin typeface="Arial"/>
                <a:ea typeface="Arial"/>
              </a:rPr>
              <a:t>y</a:t>
            </a:r>
            <a:r>
              <a:rPr b="1" i="1" lang="en-US" sz="2900" spc="-1" strike="noStrike">
                <a:solidFill>
                  <a:srgbClr val="ff0000"/>
                </a:solidFill>
                <a:latin typeface="Arial"/>
                <a:ea typeface="Arial"/>
              </a:rPr>
              <a:t>nodosa)</a:t>
            </a:r>
            <a:endParaRPr b="0" lang="en-US" sz="2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761760" y="91440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присуство локализованог увећања ткива штитасте жлезде обично праћена еуметаболизмом (ређе хипер- или хипометаболизам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Патоанатомск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 тумори (моноклонско увећање), хиперцелуларност и/или цистична трансформација, хеморагије, фиброза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Епидемиологиј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 до 12% популације, чешће код жена, инциденца расте са годинама старости.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en-US" sz="2900" spc="-1" strike="noStrike">
                <a:solidFill>
                  <a:srgbClr val="ff0000"/>
                </a:solidFill>
                <a:latin typeface="Arial"/>
                <a:ea typeface="Arial"/>
              </a:rPr>
              <a:t>STRUMA NODOSA (uninodosa, pol</a:t>
            </a:r>
            <a:r>
              <a:rPr b="1" i="1" lang="sr-Latn-RS" sz="2900" spc="-1" strike="noStrike">
                <a:solidFill>
                  <a:srgbClr val="ff0000"/>
                </a:solidFill>
                <a:latin typeface="Arial"/>
                <a:ea typeface="Arial"/>
              </a:rPr>
              <a:t>y</a:t>
            </a:r>
            <a:r>
              <a:rPr b="1" i="1" lang="en-US" sz="2900" spc="-1" strike="noStrike">
                <a:solidFill>
                  <a:srgbClr val="ff0000"/>
                </a:solidFill>
                <a:latin typeface="Arial"/>
                <a:ea typeface="Arial"/>
              </a:rPr>
              <a:t>nodosa)</a:t>
            </a:r>
            <a:endParaRPr b="0" lang="en-US" sz="2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761760" y="1066320"/>
            <a:ext cx="83818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Клиничка сли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симптоматски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Компресивни ефекти на трахеју, нерве ларинкса, једњак, вене врата (нагли бол и увећање сугерише појаву хеморагије у нодус, сумња на малигнитет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ијагноза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реглед (инспекција и палпација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Ултразвучни преглед, ређе НМР или ЦТ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цинтиграфија штитасте жлезде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ФНАБ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аспирациона биопсија танком иглом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ff0000"/>
                </a:solidFill>
                <a:latin typeface="Arial"/>
                <a:ea typeface="Arial"/>
              </a:rPr>
              <a:t>STRUMA NODOSA (uninodosa, pol</a:t>
            </a:r>
            <a:r>
              <a:rPr b="1" i="1" lang="sr-Latn-RS" sz="2900" spc="-1" strike="noStrike">
                <a:solidFill>
                  <a:srgbClr val="ff0000"/>
                </a:solidFill>
                <a:latin typeface="Arial"/>
                <a:ea typeface="Arial"/>
              </a:rPr>
              <a:t>y</a:t>
            </a:r>
            <a:r>
              <a:rPr b="1" i="1" lang="en-US" sz="2900" spc="-1" strike="noStrike">
                <a:solidFill>
                  <a:srgbClr val="ff0000"/>
                </a:solidFill>
                <a:latin typeface="Arial"/>
                <a:ea typeface="Arial"/>
              </a:rPr>
              <a:t>nodosa)</a:t>
            </a:r>
            <a:endParaRPr b="0" lang="en-US" sz="2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990720" y="11430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ерап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оцена малигног потенцијала нодуса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имена Лев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ироксина у циљу редукције концентрације ТСХ (не препарата јода јер може довести до Јод-Басед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љевог ефекта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имена радиоактивног јода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ируршко лечење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  <a:ea typeface="Arial"/>
              </a:rPr>
              <a:t>ТИРЕОИДИТИСИ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990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запаљење штитасте жлезде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дела по току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кутни: изазивачи бактерије, вируси, гљиве, радијација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убакутни: окидач запаљења вируси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ронични: аутоимунско запаљење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Акутни тиреоидитис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990720" y="14475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Ретко, супуративно запаљење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Узрочниц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бактерије, гљивице, радијација након примене Ј131, лекови (амиодарон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Бол, црвенило и оток у пределу штитасте жлезде, дисфагија, повишена температура и други системски знаци инфекције, позитиван биохуморални синдром запаљења, лимфаденопатија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ерапиј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име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антибиотика и хируршки третман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  <a:ea typeface="Arial"/>
              </a:rPr>
              <a:t>Субакутни тиреоидитис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  <a:ea typeface="Arial"/>
              </a:rPr>
              <a:t>(</a:t>
            </a:r>
            <a:r>
              <a:rPr b="1" i="1" lang="sr-Latn-CS" sz="3200" spc="-1" strike="noStrike">
                <a:solidFill>
                  <a:srgbClr val="ff0000"/>
                </a:solidFill>
                <a:latin typeface="Arial"/>
                <a:ea typeface="Arial"/>
              </a:rPr>
              <a:t>de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Quervain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990720" y="914400"/>
            <a:ext cx="81532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Грануломатозно запаљење штитасте жлезде изазвано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вирусим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(мумпс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кокс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ки, инфлуен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ц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а, адено- и еховируси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Болест траје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3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месеца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Иницијална фаза (тиреотоксикоза): иницијално деструкција фоликула (уз ослобађање ТГ, Т3 и Т4  и пораст њихове концентрације у плазми – хипертироксинемија),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фаза опоравка уз развој транзиторне хипотиреозе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Клиничка слик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: Нагло или постепено: мигрирајући бол у врату, повишена температура, системски знаци инфекције, иницијално знаци хипертироксинемије (убрзан рад срца, презнојавање, мршављење, малаксалост), затим хипотиреозе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  <a:ea typeface="Arial"/>
              </a:rPr>
              <a:t>Субакутни тиреоидитис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  <a:ea typeface="Arial"/>
              </a:rPr>
              <a:t>(</a:t>
            </a:r>
            <a:r>
              <a:rPr b="1" i="1" lang="sr-Latn-CS" sz="3200" spc="-1" strike="noStrike">
                <a:solidFill>
                  <a:srgbClr val="ff0000"/>
                </a:solidFill>
                <a:latin typeface="Arial"/>
                <a:ea typeface="Arial"/>
              </a:rPr>
              <a:t>de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Quervain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761760" y="10666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Дијагноз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Позитиван биохуморални синдром запаљења (СЕ, ЦРП, фибриноген, леукоцитоза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Повишене вредности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Т3, Т4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уз супримиран ТСХ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ниска фиксација Ј13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или Технецијума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Терапија: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мировање, одмор,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НСАИЛ (аспирин 500мг на 6 до 8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ч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понекад ГК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(4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60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мг код тежих облика болести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Бета-адренергички блокатори (за контролу симптома тиреотоксикозе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Левотироксин у случају пролонгиране фазе хипотиреоидизма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  <a:ea typeface="Arial"/>
              </a:rPr>
              <a:t>Хронични (аутоимунски) тиреоидитис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85440" y="13716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аутоимунско, орган-специфично запаљење штитасте жлезде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Епидемиологија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: чест поремећај (аутопсијски налаз 20-40%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еутироидних пацијената), 4-10 пута чешћи код жена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Клиничка презентација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реоидитис хр. Х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ш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имото, обично праћен хипотиреоидизмом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Риедел-ов хронични тиреоидитис, обично праћен еутир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озом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Хронични тиреоидитис у склопу М.Гравес, обично праћен хипертиреоидизмом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  <a:ea typeface="Arial"/>
              </a:rPr>
              <a:t>ТУМОРИ ШТИТАСТЕ ЖЛЕЗДЕ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066320" y="1142640"/>
            <a:ext cx="80773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  <a:ea typeface="Arial"/>
              </a:rPr>
              <a:t>Бенигн</a:t>
            </a:r>
            <a:r>
              <a:rPr b="1" lang="sr-Latn-CS" sz="2200" spc="-1" strike="noStrike">
                <a:solidFill>
                  <a:srgbClr val="ff3300"/>
                </a:solidFill>
                <a:latin typeface="Arial"/>
                <a:ea typeface="Arial"/>
              </a:rPr>
              <a:t>и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Фоликуларни 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дено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  <a:ea typeface="Arial"/>
              </a:rPr>
              <a:t>Малигн</a:t>
            </a:r>
            <a:r>
              <a:rPr b="1" lang="sr-Latn-CS" sz="2200" spc="-1" strike="noStrike">
                <a:solidFill>
                  <a:srgbClr val="ff3300"/>
                </a:solidFill>
                <a:latin typeface="Arial"/>
                <a:ea typeface="Arial"/>
              </a:rPr>
              <a:t>и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b80a"/>
                </a:solidFill>
                <a:latin typeface="Arial"/>
                <a:ea typeface="Arial"/>
              </a:rPr>
              <a:t>     </a:t>
            </a:r>
            <a:r>
              <a:rPr b="0" lang="sr-Latn-CS" sz="2200" spc="-1" strike="noStrike">
                <a:solidFill>
                  <a:srgbClr val="feb80a"/>
                </a:solidFill>
                <a:latin typeface="Arial"/>
                <a:ea typeface="Arial"/>
              </a:rPr>
              <a:t>Порекла фоликуларних ћелија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Папилар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н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Ца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Фол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улар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н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Ца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Лоше диферентован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Ца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Недиферентовани Ца (анапластични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eb80a"/>
                </a:solidFill>
                <a:latin typeface="Arial"/>
                <a:ea typeface="Arial"/>
              </a:rPr>
              <a:t>Порекла Ц-ћелија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Медулар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н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Ца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eb80a"/>
                </a:solidFill>
                <a:latin typeface="Arial"/>
                <a:ea typeface="Arial"/>
              </a:rPr>
              <a:t>Примарног нееп</a:t>
            </a:r>
            <a:r>
              <a:rPr b="0" lang="sr-CS" sz="2200" spc="-1" strike="noStrike">
                <a:solidFill>
                  <a:srgbClr val="feb80a"/>
                </a:solidFill>
                <a:latin typeface="Arial"/>
                <a:ea typeface="Arial"/>
              </a:rPr>
              <a:t>и</a:t>
            </a:r>
            <a:r>
              <a:rPr b="0" lang="sr-Latn-CS" sz="2200" spc="-1" strike="noStrike">
                <a:solidFill>
                  <a:srgbClr val="feb80a"/>
                </a:solidFill>
                <a:latin typeface="Arial"/>
                <a:ea typeface="Arial"/>
              </a:rPr>
              <a:t>телног порекла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Л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ф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о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и, саркоми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eb80a"/>
                </a:solidFill>
                <a:latin typeface="Arial"/>
                <a:ea typeface="Arial"/>
              </a:rPr>
              <a:t>Секундарни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Тироидна жлезда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90720" y="129528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Смештена испод и испред ларинкса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Има два лобуса повезаних истмусом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рои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ф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лику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пр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зво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ироидне хормоне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р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кс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ин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тетр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ј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одот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ронин (Т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Тр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ј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одот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ронин (Т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Оба повећавају интезитет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БМ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, стимулишу синтезу протеина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овећавају употребу гликозе и масних киселина за продукцију АТП-а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арафол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улар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ћел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Ц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ћел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оизвод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лцитонин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мању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Ц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у крви тако што инхибира реапсорпцију костију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0000"/>
                </a:solidFill>
                <a:latin typeface="Arial"/>
                <a:ea typeface="Arial"/>
              </a:rPr>
              <a:t>Карциноми штитасте жлезде 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1066680" y="1057680"/>
            <a:ext cx="7874280" cy="70380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eb80a"/>
                </a:solidFill>
                <a:latin typeface="Century"/>
                <a:ea typeface="Arial"/>
              </a:rPr>
              <a:t>Тип тумора</a:t>
            </a:r>
            <a:r>
              <a:rPr b="1" lang="en-US" sz="2000" spc="-1" strike="noStrike">
                <a:solidFill>
                  <a:srgbClr val="feb80a"/>
                </a:solidFill>
                <a:latin typeface="Century"/>
                <a:ea typeface="Arial"/>
              </a:rPr>
              <a:t>       </a:t>
            </a:r>
            <a:r>
              <a:rPr b="1" lang="sr-Latn-CS" sz="2000" spc="-1" strike="noStrike">
                <a:solidFill>
                  <a:srgbClr val="feb80a"/>
                </a:solidFill>
                <a:latin typeface="Century"/>
                <a:ea typeface="Arial"/>
              </a:rPr>
              <a:t>	</a:t>
            </a:r>
            <a:r>
              <a:rPr b="1" lang="sr-Latn-CS" sz="2000" spc="-1" strike="noStrike">
                <a:solidFill>
                  <a:srgbClr val="feb80a"/>
                </a:solidFill>
                <a:latin typeface="Century"/>
                <a:ea typeface="Arial"/>
              </a:rPr>
              <a:t>налаз</a:t>
            </a:r>
            <a:r>
              <a:rPr b="1" lang="en-US" sz="2000" spc="-1" strike="noStrike">
                <a:solidFill>
                  <a:srgbClr val="feb80a"/>
                </a:solidFill>
                <a:latin typeface="Century"/>
                <a:ea typeface="Arial"/>
              </a:rPr>
              <a:t>        </a:t>
            </a:r>
            <a:r>
              <a:rPr b="1" lang="sr-Latn-CS" sz="2000" spc="-1" strike="noStrike">
                <a:solidFill>
                  <a:srgbClr val="feb80a"/>
                </a:solidFill>
                <a:latin typeface="Century"/>
                <a:ea typeface="Arial"/>
              </a:rPr>
              <a:t>метастазе</a:t>
            </a:r>
            <a:r>
              <a:rPr b="1" lang="en-US" sz="2000" spc="-1" strike="noStrike">
                <a:solidFill>
                  <a:srgbClr val="feb80a"/>
                </a:solidFill>
                <a:latin typeface="Century"/>
                <a:ea typeface="Arial"/>
              </a:rPr>
              <a:t>             </a:t>
            </a:r>
            <a:r>
              <a:rPr b="1" lang="sr-Latn-CS" sz="2000" spc="-1" strike="noStrike">
                <a:solidFill>
                  <a:srgbClr val="feb80a"/>
                </a:solidFill>
                <a:latin typeface="Century"/>
                <a:ea typeface="Arial"/>
              </a:rPr>
              <a:t>прогноза</a:t>
            </a:r>
            <a:r>
              <a:rPr b="1" lang="en-US" sz="2000" spc="-1" strike="noStrike">
                <a:solidFill>
                  <a:srgbClr val="feb80a"/>
                </a:solidFill>
                <a:latin typeface="Century"/>
                <a:ea typeface="Arial"/>
              </a:rPr>
              <a:t>   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990720" y="2215440"/>
            <a:ext cx="8153280" cy="370620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апилар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н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Ца    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апиле      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Л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ГЛ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одличн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Фоли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улар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н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Ца   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Фоли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кул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плућ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кост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добр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Медулар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н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Ца  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Ам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лоид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плућ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јетр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лош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Анапласти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чн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Ца       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Гигантске ћ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дисеминациј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лош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  <a:ea typeface="Arial"/>
              </a:rPr>
              <a:t>БОЛЕСТИ ШТИТАСТЕ ЖЛЕЗДЕ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Хиперфункиција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Хипофункција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Регулација метаболизма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Тироидеа је под контролом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ХТХ-ХФ осовине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2"/>
          <p:cNvSpPr/>
          <p:nvPr/>
        </p:nvSpPr>
        <p:spPr>
          <a:xfrm>
            <a:off x="1066680" y="246240"/>
            <a:ext cx="782640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ТЕСТОВИ ТИРОИДНЕ ФУНКЦИЈЕ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3"/>
          <p:cNvSpPr/>
          <p:nvPr/>
        </p:nvSpPr>
        <p:spPr>
          <a:xfrm>
            <a:off x="1295280" y="1814400"/>
            <a:ext cx="745344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ee T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3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ерумски TS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H стимулациони тес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5580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дговор TSH нa TRH IV inj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5580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ормално TSH расте до 30 mIU/m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  <a:ea typeface="Arial"/>
              </a:rPr>
              <a:t>ХИПЕРФУНКЦИЈА ШТИТАСТЕ ЖЛЕЗДЕ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ертиреоидиза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је клиничко с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тањ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овећане концентрације тироидних хормона у крви настало због њихове повећане продукције у штитастој жлезди и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раћено њиховом повећаном активношћу у периферним ткивима,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ри чему секреција тироидних хормона више није под регулаторном контролом хипоталамо-хипофизног система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  <a:ea typeface="Arial"/>
              </a:rPr>
              <a:t>ЕПИДЕМИОЛОГИЈА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066320" y="11430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д хипертиреодизма обољева око 0,5% популације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av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је најчешћи узрок хипертиреодизм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-80%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пацијена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Жене чешће обољевају од мушкараца (однос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0:1.5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ик инциденције у старосној доби од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0-40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год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Расна расподела: слична инциденција међу белцима и азијатима, док је нижа међу афроамериканцима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  <a:ea typeface="Arial"/>
              </a:rPr>
              <a:t>Субакутни тиреоидитис</a:t>
            </a:r>
            <a:r>
              <a:rPr b="1" lang="sr-RS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  <a:ea typeface="Arial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de </a:t>
            </a:r>
            <a:r>
              <a:rPr b="1" i="1" lang="sr-Latn-CS" sz="3200" spc="-1" strike="noStrike">
                <a:solidFill>
                  <a:srgbClr val="ff0000"/>
                </a:solidFill>
                <a:latin typeface="Arial"/>
                <a:ea typeface="Arial"/>
              </a:rPr>
              <a:t>Q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uervain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Грануломатозно запаљење штитасте жлезд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изазвано вирусим (мумпс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кокс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и, инфлуенза, адено- и еховируси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ницијално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еструкција фоликул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уз ослобађање ТГ и Т3 и Т4 – хипертироксинемија), затим фаза опоравка уз развој транзиторне хипотиреозе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Бо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повишена температура, системски знаци инфекције,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зитиван биохуморални синдро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запаљења,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иска фиксација Ј131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иницијално знаци хипертироксинемије, затим хипотиреозе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ерап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НСАИЛ, понекад ГК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К</a:t>
            </a: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линичка дилема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Хиперметаболичко/хиперадренергичко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клиничко стање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и/или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yreotoxicosi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и/или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yperthyreosi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0000"/>
                </a:solidFill>
                <a:latin typeface="Arial"/>
                <a:ea typeface="Arial"/>
              </a:rPr>
              <a:t>Хиперметаболичко/хиперадренергичко клиничко стање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90720" y="1066320"/>
            <a:ext cx="81532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07960" indent="0" algn="just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повећање 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базалног метаболизма у физиолошким условим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2227320" indent="-228600" algn="just">
              <a:lnSpc>
                <a:spcPct val="7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након узимања хране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2227320" indent="-228600" algn="just">
              <a:lnSpc>
                <a:spcPct val="7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услед промене климатских услова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2227320" indent="-228600" algn="just">
              <a:lnSpc>
                <a:spcPct val="7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у зависности од узраста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2227320" indent="-228600" algn="just">
              <a:lnSpc>
                <a:spcPct val="7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у трудноћи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2227320" indent="-228600" algn="just">
              <a:lnSpc>
                <a:spcPct val="7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услед физичке активности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2227320" indent="-228600" algn="just">
              <a:lnSpc>
                <a:spcPct val="70000"/>
              </a:lnSpc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при замору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2227320" indent="-228600" algn="just">
              <a:lnSpc>
                <a:spcPct val="70000"/>
              </a:lnSpc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услед дејства ендокриних фактора и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2227320" indent="-228600" algn="just">
              <a:lnSpc>
                <a:spcPct val="70000"/>
              </a:lnSpc>
              <a:spcBef>
                <a:spcPts val="550"/>
              </a:spcBef>
              <a:buSzPct val="102909"/>
              <a:buBlip>
                <a:blip r:embed="rId8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услед активације симпатикуса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507960" indent="0" algn="just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повећање 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базалног метаболизма у патолошким условим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2227320" indent="-228600" algn="just">
              <a:lnSpc>
                <a:spcPct val="70000"/>
              </a:lnSpc>
              <a:spcBef>
                <a:spcPts val="550"/>
              </a:spcBef>
              <a:buSzPct val="102909"/>
              <a:buBlip>
                <a:blip r:embed="rId9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тиреотоксикоза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2227320" indent="-228600" algn="just">
              <a:lnSpc>
                <a:spcPct val="70000"/>
              </a:lnSpc>
              <a:spcBef>
                <a:spcPts val="550"/>
              </a:spcBef>
              <a:buSzPct val="102909"/>
              <a:buBlip>
                <a:blip r:embed="rId10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г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розница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2227320" indent="-228600" algn="just">
              <a:lnSpc>
                <a:spcPct val="70000"/>
              </a:lnSpc>
              <a:spcBef>
                <a:spcPts val="550"/>
              </a:spcBef>
              <a:buSzPct val="102909"/>
              <a:buBlip>
                <a:blip r:embed="rId1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феохромоцитом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2227320" indent="-228600" algn="just">
              <a:lnSpc>
                <a:spcPct val="70000"/>
              </a:lnSpc>
              <a:spcBef>
                <a:spcPts val="550"/>
              </a:spcBef>
              <a:buSzPct val="102909"/>
              <a:buBlip>
                <a:blip r:embed="rId1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почетна фаза хипотермије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2227320" indent="-228600" algn="just">
              <a:lnSpc>
                <a:spcPct val="70000"/>
              </a:lnSpc>
              <a:spcBef>
                <a:spcPts val="550"/>
              </a:spcBef>
              <a:buSzPct val="102909"/>
              <a:buBlip>
                <a:blip r:embed="rId1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тумори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2227320" indent="-228600" algn="just">
              <a:lnSpc>
                <a:spcPct val="70000"/>
              </a:lnSpc>
              <a:spcBef>
                <a:spcPts val="550"/>
              </a:spcBef>
              <a:buSzPct val="102909"/>
              <a:buBlip>
                <a:blip r:embed="rId1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дијабетесна кетоацидоза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2227320" indent="-228600" algn="just">
              <a:lnSpc>
                <a:spcPct val="70000"/>
              </a:lnSpc>
              <a:spcBef>
                <a:spcPts val="550"/>
              </a:spcBef>
              <a:buSzPct val="102909"/>
              <a:buBlip>
                <a:blip r:embed="rId1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срчана инсуфицијенција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4674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0000"/>
                </a:solidFill>
                <a:latin typeface="Arial"/>
                <a:ea typeface="Arial"/>
              </a:rPr>
              <a:t>Т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  <a:ea typeface="Arial"/>
              </a:rPr>
              <a:t>ИРЕО</a:t>
            </a:r>
            <a:r>
              <a:rPr b="1" lang="sl-SI" sz="3600" spc="-1" strike="noStrike">
                <a:solidFill>
                  <a:srgbClr val="ff0000"/>
                </a:solidFill>
                <a:latin typeface="Arial"/>
                <a:ea typeface="Arial"/>
              </a:rPr>
              <a:t>ТО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  <a:ea typeface="Arial"/>
              </a:rPr>
              <a:t>КСИКОЗА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90720" y="-360"/>
            <a:ext cx="815328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тање повећане концентрације тироидних хормона у крви због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овећане продукције у штитастој жлезди или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ослобађања након разарања штитасте жлезде или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јатрогено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Arial"/>
                <a:ea typeface="Arial"/>
              </a:rPr>
              <a:t>ХИПЕРТИРЕОЗА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тање повећане концентрације тироидних хормона у крви због њихове повећане продукције у штитастој жлезди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0000"/>
                </a:solidFill>
                <a:latin typeface="Arial"/>
                <a:ea typeface="Arial"/>
              </a:rPr>
              <a:t>Последице тиреотоксикозе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Пораст базалног метаболизма (катаболизам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Интолеранција топлоте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Мршављење упркос добром апетиту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Субфебрилност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рв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за, несаница, раздражљивост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Пораст броја адренергичких рецептора (повећана осетљивост на катехоламине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Тахикардија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Презнојавање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Дивергентна артеријска хипертензија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Тремор екстремитета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1"/>
          <p:cNvSpPr/>
          <p:nvPr/>
        </p:nvSpPr>
        <p:spPr>
          <a:xfrm>
            <a:off x="990720" y="380880"/>
            <a:ext cx="8153280" cy="68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85920" indent="-55800">
              <a:lnSpc>
                <a:spcPct val="100000"/>
              </a:lnSpc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hyroxine (tetraiodothyronine,T4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55800">
              <a:lnSpc>
                <a:spcPct val="100000"/>
              </a:lnSpc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riiodothyronine (T3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55800">
              <a:lnSpc>
                <a:spcPct val="100000"/>
              </a:lnSpc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55800">
              <a:lnSpc>
                <a:spcPct val="100000"/>
              </a:lnSpc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днос секреције Т4:T3  je 15:1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4 и T3 се ослобађају и транспортују везани за серумске протеине: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55800">
              <a:lnSpc>
                <a:spcPct val="100000"/>
              </a:lnSpc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hyroxine-Binding Globulin (TBG): 75%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55800">
              <a:lnSpc>
                <a:spcPct val="100000"/>
              </a:lnSpc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hyroxine-Binding Prealbumin (TBPA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55800">
              <a:lnSpc>
                <a:spcPct val="100000"/>
              </a:lnSpc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lbumin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Узроци ↑TBG: трудноћа, Е, цироза јетре, хепатитис, порфирија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Узроци ↓TBG: нефротски синдром, хепатична инсуфицијенција,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високе дозе ГКС, протеинска малнутриција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55800">
              <a:lnSpc>
                <a:spcPct val="100000"/>
              </a:lnSpc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55800">
              <a:lnSpc>
                <a:spcPct val="100000"/>
              </a:lnSpc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Клиничка слика: кожа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066320" y="99072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опл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Еритематозна (због повећаног протока крви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ека, сомотаста (смањење кератина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Влажна (неподношење топлоте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н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ол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ис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меки и лако ломљиви нокти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ури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у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анка коса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нфилтратив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дермопа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ја (у М. Гравес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Укочен поглед, израз “зурења” и немогућност затварања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чних капака (последица повећане активности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импатикусног система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Клиничка слика: 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  <a:ea typeface="Arial"/>
              </a:rPr>
              <a:t>очи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Знаци тироидне орбитопатије (у М. Гравес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гз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ф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талм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(проптоза очних јабучица)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Инфлам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ција и задебљање екстраокуларних мишића, орбиталног масног и везивног ткива (чешће код пушача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Смањена функција екстраокуларних мишић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д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иплоп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ј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а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Периорбитал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ни и коњунктивални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едем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Осећај “песка у очима” и бола у очима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Корнеалне улцерације (због проптозе и немогућности затварања очних капака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Клиничка слика: 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  <a:ea typeface="Arial"/>
              </a:rPr>
              <a:t>КВС и РС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Тах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икардија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Систолна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ХТ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са повећаним пулсним притиском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Пораст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МВ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пораста потреб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з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а кисеоником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СИ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са повећаним минутним волуменом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АФ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(код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10-20% п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цијената, најчешће старијих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Атријални поремећаји ритма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ХЛК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и кардиомиопатија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Диспнеја у миру и у напору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Пораст утрошка </a:t>
            </a:r>
            <a:r>
              <a:rPr b="0" i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i="1" lang="sr-Latn-CS" sz="2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и производње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i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i="1" lang="sr-Latn-CS" sz="2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п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кс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ем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ј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а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пер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апн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иј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Слабост респираторних мишића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Смањен капацитет физичке издржљивости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Опструкција трахеје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Егзацербација бронхијалне астме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572314"/>
                </a:solidFill>
                <a:latin typeface="Gill Sans MT"/>
              </a:rPr>
              <a:t> </a:t>
            </a:r>
            <a:br>
              <a:rPr sz="2500"/>
            </a:br>
            <a:br>
              <a:rPr sz="2500"/>
            </a:br>
            <a:r>
              <a:rPr b="1" lang="sr-CS" sz="2900" spc="-1" strike="noStrike">
                <a:solidFill>
                  <a:srgbClr val="ff0000"/>
                </a:solidFill>
                <a:latin typeface="Arial"/>
                <a:ea typeface="Arial"/>
              </a:rPr>
              <a:t>ГИТ</a:t>
            </a:r>
            <a:br>
              <a:rPr sz="2900"/>
            </a:br>
            <a:endParaRPr b="0" lang="en-US" sz="2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066320" y="68580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Мршављење (због повећане калоригенезе) уз непромењен или појачан апетит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пердеф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кација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Мал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сорп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ција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Стеатореа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пер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фагиј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код млађих пацијената може довести до краткотрајног пораста телесне мас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Анор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ксиј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(обично код старијих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Д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ф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аги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ј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хе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матопоезни систем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Нормохро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нормоц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анем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ј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а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Повећан серумски феритин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У склопу М. Гравес: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TP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Пернициозна анемија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  <a:ea typeface="Arial"/>
              </a:rPr>
              <a:t>Клиничка слика: урогенитални систем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80773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Чешће уринирне и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н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тур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ј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Код деце честа енуреза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Gill Sans MT"/>
              </a:rPr>
              <a:t>♀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↑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HBG, </a:t>
            </a: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↑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естрадиол, </a:t>
            </a: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↓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слободни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естрадиол, </a:t>
            </a: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↑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H,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Редукован пик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средином 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ц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. , Олигоменореа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аменореа, Ановулатор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н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инфертилит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ет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Gill Sans MT"/>
              </a:rPr>
              <a:t>♂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↑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HBG, </a:t>
            </a: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↑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укупн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тестостерон, </a:t>
            </a: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↓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слободн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тестостерон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↑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H, </a:t>
            </a: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↑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естрадиол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Ginecomastia,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Смањен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либидо,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Еректилна дисфункциј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Поремећен спермограм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572314"/>
                </a:solidFill>
                <a:latin typeface="Gill Sans MT"/>
              </a:rPr>
              <a:t> </a:t>
            </a:r>
            <a:br>
              <a:rPr sz="2500"/>
            </a:br>
            <a:br>
              <a:rPr sz="2500"/>
            </a:br>
            <a:r>
              <a:rPr b="1" lang="en-US" sz="25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С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  <a:ea typeface="Arial"/>
              </a:rPr>
              <a:t>келетни систем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6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orbel"/>
              </a:rPr>
              <a:t>↑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Реапсорпција костију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orbel"/>
              </a:rPr>
              <a:t>↑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орозност кортикалне кости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orbel"/>
              </a:rPr>
              <a:t>↓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волумен трабекуларне кости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orbel"/>
              </a:rPr>
              <a:t>↑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остеобласта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orbel"/>
              </a:rPr>
              <a:t>↓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апсорпција и </a:t>
            </a:r>
            <a:r>
              <a:rPr b="1" lang="sr-RS" sz="2000" spc="-1" strike="noStrike">
                <a:solidFill>
                  <a:srgbClr val="000000"/>
                </a:solidFill>
                <a:latin typeface="Corbel"/>
              </a:rPr>
              <a:t>↑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екскреција калцијума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стеопор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за и патолошке фрактуре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Тремор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(испружене руке и језик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Хиперрефлексија (тетивни рефлекси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Arial"/>
              </a:rPr>
              <a:t>Не</a:t>
            </a:r>
            <a:r>
              <a:rPr b="1" lang="sr-Latn-CS" sz="2600" spc="-1" strike="noStrike">
                <a:solidFill>
                  <a:srgbClr val="ff0000"/>
                </a:solidFill>
                <a:latin typeface="Arial"/>
                <a:ea typeface="Arial"/>
              </a:rPr>
              <a:t>уромускуларни систем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сихичке промене: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хиперактивност, емоционална лабилност, анксиозност, смањена концентрација, несаница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Мишићна слабост: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оксимална мишићна слабост, смањена мишићна маса и снага (нормализују се тек након 6 месеци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  <a:ea typeface="Arial"/>
              </a:rPr>
              <a:t>Специфичности М. Гравес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Дифузно увећана тироидеј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, неосетљива на бол, тврд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Трил и шу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над тироидејом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Офталмопатиј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(очне манифестације код 50%): осећај “песка у очима”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, периорбитал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н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едем,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оњун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тивал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н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едем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и хиперемиј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лоше затварање очних капак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дисфункција екстраокуларних мишић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, диплоп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ј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а,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бол при покретању очију и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пропт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з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Дерматоакропатиј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(манифестације на кожи и удовима код 20%): депозиција гликозаминогликана у кожи и доњим екстремитетима удружени са еритемом и задебљањем коже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  <a:ea typeface="Arial"/>
              </a:rPr>
              <a:t>ДИЈАГНОЗА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90720" y="99036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Проверити да ли има </a:t>
            </a:r>
            <a:r>
              <a:rPr b="1" i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симптома и знака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хиперметаболичког клиничког стања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Прегледом тиреоидеје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проверит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морфолошке карактеристике (дифузна и/или нодозна струма),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да ли има специфичних манифестација М. Гравес и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да ли има елемената за тиреоидитис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Лабораторијска дијагностика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Биохум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синдром запаљења (СЕ, ККС,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фиб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. и ЦРП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Тиреоидни статус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Морфолошка дијагностика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(ултразвук и сцинтиграфија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  <a:ea typeface="Arial"/>
              </a:rPr>
              <a:t>ДИЈАГНОЗА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18960" y="99036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Маркери аутоимунског процеса: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АнтиТ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H R</a:t>
            </a:r>
            <a:r>
              <a:rPr b="1" i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А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АнтиТ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О 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АнтиТГ 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Туморски маркери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Калцитонин (ЦТ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ПТ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Тиреоглобулин (ТГ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  <a:ea typeface="Arial"/>
              </a:rPr>
              <a:t>ТЕРАПИЈА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907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Хигијенско-дијететски режим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Избегавање теже физичке активности (до увођења у ремисију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Престанак пушења и избегавање боравка у просторијама са дуванским димо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Неизлагање Сунц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Забрана конзумирања хране богате јодо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Избегавање боравка у топлим, влажним просторијама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Редукција симптома: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-блокатори (у случају да су контраиндиковани-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++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антагонисти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Седативи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Смањење секреције тиреоидних хормона: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Тиреосупресивни лекови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Терапијска примена радио Ј</a:t>
            </a:r>
            <a:r>
              <a:rPr b="0" lang="sr-Latn-CS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31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Хируршка интервенција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1"/>
          <p:cNvSpPr/>
          <p:nvPr/>
        </p:nvSpPr>
        <p:spPr>
          <a:xfrm>
            <a:off x="838080" y="658800"/>
            <a:ext cx="845820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4 се дејодинише на периферији у T3 што чини 80% T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руги метаболит T4 j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ver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3 (rT3) који је метаболички инактиван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3 улази у ћелије и везује се за групу нуклеарних рецептора, а затим утиче на многе ћелијске метаболичке ф-ј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ормалан ћелијски метаболизам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  <a:ea typeface="Arial"/>
              </a:rPr>
              <a:t>ТЕРАПИЈА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066320" y="83808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Смањење секреције тиреоидних хормо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Тиреосупресивни лекови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Терапијска примена радио Ј</a:t>
            </a:r>
            <a:r>
              <a:rPr b="1" lang="sr-Latn-CS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31: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Токсични адено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Токсична мултинодуларна струм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М. Гравес (50% пацијената има ризик од погоршања орбитопатије!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Хируршка интервенција (субтотална тиреидектомија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М. Гравес који не може бити контролисан тиреосупресивим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Токсични адено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Токсична мултинодуларна струма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1066680" y="12949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Постизање ремисиј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 60%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пацијената код којих се спроведе целокупан терапијски циклус (1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18 месеци)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Релапс код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50%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Релапс је чешћи код:Пушач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Пацијената који имају позитивна </a:t>
            </a:r>
            <a:r>
              <a:rPr b="1" i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АнтиТ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H R</a:t>
            </a:r>
            <a:r>
              <a:rPr b="1" i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А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на крају терапије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Доступни тиреосупресивни лекови: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Метимазол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(Тиамазол), лек првог избора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Пропилтиоурацил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, резервисан за специфичне клиничке ситуације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  <a:ea typeface="Arial"/>
              </a:rPr>
              <a:t>ТИРЕОСУПРЕСИВИ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1066320" y="304920"/>
            <a:ext cx="807732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Увођење терапије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Након потврде да се ради о хипертиреози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Иницијалне дозе: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ММИ 20-40 мг (1-2 пута дневно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ПТУ 300-600 мг (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4 пута дневно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Праћење ефеката терапије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Прва контрола за 6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8 недеља, првих месеци ослонити се на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i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Т4 (Т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H</a:t>
            </a:r>
            <a:r>
              <a:rPr b="0" i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је супримиран у том периоду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Накнадне контроле на 3 месеца, пратити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i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Т4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0" i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H</a:t>
            </a:r>
            <a:r>
              <a:rPr b="0" i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Укупно трајање терапије 1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8 месеци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Подешавање терапије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Након постизања ремисије (очекује се у прва 3 месеца терапије) редуковати дозу на ниво одржавања: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ММ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2.5-15 мг (једном д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евно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601"/>
              </a:spcBef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ПТУ     100-150мг (два до 3 пута днев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  <a:ea typeface="Arial"/>
              </a:rPr>
              <a:t>Компликације терапије 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Токсични хепатитис (јавља се само током терапије ПТУ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Агранулоцитоза (може га изазвати и ММИ и ПТУ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Најважнији савет: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у случају развоја изненадне фебрилности и гушобоље одмах проверити ККС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Arial"/>
                <a:ea typeface="Arial"/>
              </a:rPr>
              <a:t>    </a:t>
            </a:r>
            <a:r>
              <a:rPr b="1" lang="sr-CS" sz="3200" spc="-1" strike="noStrike">
                <a:solidFill>
                  <a:srgbClr val="ff0000"/>
                </a:solidFill>
                <a:latin typeface="Arial"/>
                <a:ea typeface="Arial"/>
              </a:rPr>
              <a:t>Тиреотоксична криза </a:t>
            </a:r>
            <a:r>
              <a:rPr b="1" lang="sl-SI" sz="3200" spc="-1" strike="noStrike">
                <a:solidFill>
                  <a:srgbClr val="ff0000"/>
                </a:solidFill>
                <a:latin typeface="Arial"/>
                <a:ea typeface="Arial"/>
              </a:rPr>
              <a:t>(“олуја”)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44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По живот опасна егзацербација хипертиреоидизма (фебрилност, делиријум, мишићни грчеви, повраћање, дијареја, жутица, кома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Нелечена или непрепозната хипертиреоза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Акутна болест (ЦВИ, АИМ, инфекција, траума, ДКА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spcAft>
                <a:spcPts val="414"/>
              </a:spcAft>
              <a:buClr>
                <a:srgbClr val="ffff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По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ж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ивот опасна, изненадна хиперактивност тироидее. П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редставља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завршну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фазу континуума: хипертирео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идизам-тиреотоксикоза-тиреотоксична олуја-тироидна олуј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“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0">
              <a:lnSpc>
                <a:spcPct val="100000"/>
              </a:lnSpc>
              <a:spcBef>
                <a:spcPts val="601"/>
              </a:spcBef>
              <a:spcAft>
                <a:spcPts val="4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200" spc="-1" strike="noStrike">
                <a:solidFill>
                  <a:srgbClr val="ff0000"/>
                </a:solidFill>
                <a:latin typeface="Arial"/>
                <a:ea typeface="Arial"/>
              </a:rPr>
              <a:t>Прогноза: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Раније је морталитет код нелечених пацијената износио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100%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, и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20%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код лечених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0">
              <a:lnSpc>
                <a:spcPct val="100000"/>
              </a:lnSpc>
              <a:spcBef>
                <a:spcPts val="601"/>
              </a:spcBef>
              <a:spcAft>
                <a:spcPts val="4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Актуелно, морталитет ј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&lt;5%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код лечених пацијената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2"/>
          <p:cNvSpPr/>
          <p:nvPr/>
        </p:nvSpPr>
        <p:spPr>
          <a:xfrm>
            <a:off x="1066680" y="338040"/>
            <a:ext cx="8077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Arial"/>
                <a:ea typeface="Arial"/>
              </a:rPr>
              <a:t>Тиреотоксична криз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3"/>
          <p:cNvSpPr/>
          <p:nvPr/>
        </p:nvSpPr>
        <p:spPr>
          <a:xfrm>
            <a:off x="1066680" y="1066680"/>
            <a:ext cx="8077320" cy="58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7160" indent="-227160"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14"/>
              </a:spcAft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грозниц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, нарушен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ментални статус (узнемиреност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конфузија, кома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Тахикардиј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Повраћање/дијареј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14"/>
              </a:spcAft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+/- жутица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Са повећањем тежине олује: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14"/>
              </a:spcAft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иперкинезиј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немир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Емоционалн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нест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билност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збуњеност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психоз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апатиј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поспаност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, К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ома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14"/>
              </a:spcAft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већана срчана фреквенца (синусна тахикардија или атријална фибрилација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2"/>
          <p:cNvSpPr/>
          <p:nvPr/>
        </p:nvSpPr>
        <p:spPr>
          <a:xfrm>
            <a:off x="1066680" y="369720"/>
            <a:ext cx="8077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Arial"/>
                <a:ea typeface="Arial"/>
              </a:rPr>
              <a:t>Преципитишући фактори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3"/>
          <p:cNvSpPr/>
          <p:nvPr/>
        </p:nvSpPr>
        <p:spPr>
          <a:xfrm>
            <a:off x="1371600" y="1371600"/>
            <a:ext cx="7315200" cy="49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9280" indent="-179280">
              <a:lnSpc>
                <a:spcPct val="100000"/>
              </a:lnSpc>
              <a:spcAft>
                <a:spcPts val="414"/>
              </a:spcAft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Инфекција, упала плућа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14"/>
              </a:spcAft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СИ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14"/>
              </a:spcAft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Плућна емболиј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14"/>
              </a:spcAft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ДКА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14"/>
              </a:spcAft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Порођај/токсемија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14"/>
              </a:spcAft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траума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14"/>
              </a:spcAft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Операција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14"/>
              </a:spcAft>
              <a:buSzPct val="1029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ирургија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14"/>
              </a:spcAft>
              <a:buSzPct val="10290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Терапија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Ј 131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14"/>
              </a:spcAft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ЈКС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14"/>
              </a:spcAft>
              <a:buSzPct val="10290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обустављање антитироидних лекова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 Box 2"/>
          <p:cNvSpPr/>
          <p:nvPr/>
        </p:nvSpPr>
        <p:spPr>
          <a:xfrm>
            <a:off x="1066680" y="251280"/>
            <a:ext cx="807732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ТЕРАПИЈ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3"/>
          <p:cNvSpPr/>
          <p:nvPr/>
        </p:nvSpPr>
        <p:spPr>
          <a:xfrm>
            <a:off x="1066680" y="1143000"/>
            <a:ext cx="8077320" cy="48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9280" indent="-179280">
              <a:lnSpc>
                <a:spcPct val="100000"/>
              </a:lnSpc>
              <a:spcAft>
                <a:spcPts val="414"/>
              </a:spcAft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исок проток O2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14"/>
              </a:spcAft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рзо хлађење  (ако је висока температура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14"/>
              </a:spcAft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V +/- IV течност код дехидратације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14"/>
              </a:spcAft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ета блокатор IV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14"/>
              </a:spcAft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+/-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igoxin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14"/>
              </a:spcAft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локатори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канала (АФ);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14"/>
              </a:spcAft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+/- диуретик за СИ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14"/>
              </a:spcAft>
              <a:buSzPct val="1029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ткрити и лечити преципитишући узрок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14"/>
              </a:spcAft>
              <a:buSzPct val="10290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14"/>
              </a:spcAft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ydrocortison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100 mg, PTU 600-900mg P.O или NG, затим 200-300 mg, Јод (&gt;1h након 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TU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): 1-2g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odium iodid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V, затим 500 mg/12h;  или  20 gtt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414"/>
              </a:spcAft>
              <a:buSzPct val="10290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sl-SI" sz="3200" spc="-1" strike="noStrike">
                <a:solidFill>
                  <a:srgbClr val="ff0000"/>
                </a:solidFill>
                <a:latin typeface="Arial"/>
                <a:ea typeface="Arial"/>
              </a:rPr>
              <a:t>ХИПОТИРЕОИДИЗАМ</a:t>
            </a: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8001000" cy="48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тироидизам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је стање настало као последица недостатка ефеката тироидних хормона, било због њихове смањене продукције или резистенције периферних ткива на њих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lnSpc>
                <a:spcPct val="100000"/>
              </a:lnSpc>
              <a:spcBef>
                <a:spcPts val="55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Микседем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(раније синоним за хипотиреозу) данас се односи на промене коже и поткожног ткива које се виђају код пацијената са тешким обликом хипотиреозе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  <a:ea typeface="Arial"/>
              </a:rPr>
              <a:t>ЕПИДЕМИОЛОГИЈА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АДУЛТНА ПОПУЛАЦИЈА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Клинички манифестни облик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Око 2% жене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Око 0,1-0,2% мушкарци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Субклинички облик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Око 9,5%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НЕОНАТУСИ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1 на 3500 новорођених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sr-Latn-CS" sz="2900" spc="-1" strike="noStrike">
                <a:solidFill>
                  <a:srgbClr val="ff0000"/>
                </a:solidFill>
                <a:latin typeface="Arial"/>
                <a:ea typeface="Arial"/>
              </a:rPr>
              <a:t>Контрола секреције тиреоидних хормона</a:t>
            </a:r>
            <a:endParaRPr b="0" lang="en-US" sz="2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556272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тропин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слобађајућ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фактор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ормо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Т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Ф или ТР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з хипоталамуса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69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ре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тиму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шућ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хормон (ТСХ)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з аденохипофизе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69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тања у којима је повећана потреба за синтезом АТП доводе до пораста секреције тиреоидних хормона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  <a:ea typeface="Arial"/>
              </a:rPr>
              <a:t>ЕТИОЛОШКА ПОДЕЛА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КОНГЕНИТАЛНИ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Аплазија, хипоплазија и ектопија штитасте жлезде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Дефекти у биосинтези и/или дејству хормона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СТЕЧЕНИ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Аутоимунски тиреоидитис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Тежак дефицит јода у исхрани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Аблација тиреоидеје (хируршке интервенције, радијација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МЕДИКАМЕНТОЗНИ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Јод, ПТУ, ММИ, К-перхлорат, Тиоцијанат, Литијум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  <a:ea typeface="Arial"/>
              </a:rPr>
              <a:t>ЕТИОПАТОГЕНЕЗ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: </a:t>
            </a:r>
            <a:br>
              <a:rPr sz="3200"/>
            </a:br>
            <a:r>
              <a:rPr b="0" lang="sl-SI" sz="3200" spc="-1" strike="noStrike">
                <a:solidFill>
                  <a:srgbClr val="ff0000"/>
                </a:solidFill>
                <a:latin typeface="Arial"/>
                <a:ea typeface="Arial"/>
              </a:rPr>
              <a:t>аутоимунски тиреоидитис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Утицај наслеђа на дефектан имунски одговор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Развој аутоимунског процеса (Т-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reg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 лимфоцити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Мора се разорити око 90% тиреоцита да би се развио хипотиреоидизам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Аутоимунски механизми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Анти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ц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 Аб (Анти</a:t>
            </a:r>
            <a:r>
              <a:rPr b="0" i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i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О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Аб) – деструкција тироцита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АнтиТГ Аб – деструкција тиреоцита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цитотоксични Т-Л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м – апоптоза тиреоцита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  <a:ea typeface="Arial"/>
              </a:rPr>
              <a:t>НИВО ПОРЕМЕЋАЈА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9072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РИМАРНИ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Болести штитасте жлезде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ЕКУНДАРНИ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Болести хипофизе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ТЕРЦИЈАЛНИ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Болести хипоталамуса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8" name="AutoShape 4"/>
          <p:cNvSpPr/>
          <p:nvPr/>
        </p:nvSpPr>
        <p:spPr>
          <a:xfrm>
            <a:off x="4267080" y="3352680"/>
            <a:ext cx="1524240" cy="2590920"/>
          </a:xfrm>
          <a:custGeom>
            <a:avLst/>
            <a:gdLst>
              <a:gd name="textAreaLeft" fmla="*/ 0 w 1524240"/>
              <a:gd name="textAreaRight" fmla="*/ 550440 w 152424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5"/>
          <p:cNvSpPr/>
          <p:nvPr/>
        </p:nvSpPr>
        <p:spPr>
          <a:xfrm>
            <a:off x="5638680" y="43434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eb80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eb80a"/>
                </a:solidFill>
                <a:latin typeface="Arial"/>
                <a:ea typeface="Arial"/>
              </a:rPr>
              <a:t>централни</a:t>
            </a:r>
            <a:r>
              <a:rPr b="0" lang="sl-SI" sz="2800" spc="-1" strike="noStrike">
                <a:solidFill>
                  <a:srgbClr val="feb80a"/>
                </a:solidFill>
                <a:latin typeface="Arial"/>
                <a:ea typeface="Arial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ФАКТОРИ РИЗИКА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1219320" y="16765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об (старији од 50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ол: женски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гојазност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перација тироидее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Зрачење вратне регије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90720" y="115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0000"/>
                </a:solidFill>
                <a:latin typeface="Arial"/>
                <a:ea typeface="Arial"/>
              </a:rPr>
              <a:t>КЛИНИЧКА ПРЕЗЕНТАЦИЈА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42640" y="16765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АСИМПТОМАТСКИ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(и до 80% пацијената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ИВА ЗОНА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Непотпуна клиничка слика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Неспецифична симптоматологија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арадокслана симптоматологија (несанаица, појачана раздражљивост, хиперактивност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РАЗВИЈЕНА КЛИНИЧКА СЛИКА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  <a:ea typeface="Arial"/>
              </a:rPr>
              <a:t>КЛИНИЧКА ПРЕЗЕНТАЦИЈА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ОПШТИ СИМПТОМИ И ЗНАЦИ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Симптоми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Зимогрожљивост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Умор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Добијање у ТМ уз смањење апетита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Знаци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хипотермија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1142640" y="228240"/>
            <a:ext cx="8001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  <a:ea typeface="Arial"/>
              </a:rPr>
              <a:t>НЕРВ</a:t>
            </a:r>
            <a:r>
              <a:rPr b="1" lang="sr-CS" sz="3200" spc="-1" strike="noStrike">
                <a:solidFill>
                  <a:srgbClr val="ff0000"/>
                </a:solidFill>
                <a:latin typeface="Arial"/>
                <a:ea typeface="Arial"/>
              </a:rPr>
              <a:t>Н</a:t>
            </a:r>
            <a:r>
              <a:rPr b="1" lang="sl-SI" sz="3200" spc="-1" strike="noStrike">
                <a:solidFill>
                  <a:srgbClr val="ff0000"/>
                </a:solidFill>
                <a:latin typeface="Arial"/>
                <a:ea typeface="Arial"/>
              </a:rPr>
              <a:t>И СИСТЕМ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Симптоми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Л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етаргиј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поремећаји памћењ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поремећаји пажњ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промена карактера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Знаци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Сомноленциј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Церебеларна атаксиј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Оштећење чула слуха и укус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Психопатолошки поремећаји (параноидна или депресивна реакција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sl-SI" sz="2800" spc="-1" strike="noStrike">
                <a:solidFill>
                  <a:srgbClr val="ff0000"/>
                </a:solidFill>
                <a:latin typeface="Arial"/>
                <a:ea typeface="Arial"/>
              </a:rPr>
              <a:t>НЕУРОМИШИЋНИ СИСТЕМ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Симптоми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Слабост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Мишићни грчев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Болови у зглобовима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Знаци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Успорена релаксација дубоких тетивних рефлекс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Синдром карпалног тунела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990720" y="-360"/>
            <a:ext cx="81532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0000"/>
                </a:solidFill>
                <a:latin typeface="Arial"/>
                <a:ea typeface="Arial"/>
              </a:rPr>
              <a:t>ГАСТРОИНТЕСТИНАЛНИ СИСТЕМ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Симптоми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Мучнина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Затвор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Метеоризам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Знаци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Увећање језика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Асцитес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Успорена перисталтика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sr-RS" sz="22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sr-RS" sz="22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sr-RS" sz="18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sr-RS" sz="18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0000"/>
                </a:solidFill>
                <a:latin typeface="Arial"/>
                <a:ea typeface="Arial"/>
              </a:rPr>
              <a:t>РЕПРОДУКТИВНИ СИСТЕМ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Смањен либидо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Смањена фертилност (олигоспермија, ановулација)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Поремећаји менструационог циклус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(хиперменореја)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Галактореја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1066320" y="0"/>
            <a:ext cx="807732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  <a:ea typeface="Arial"/>
              </a:rPr>
              <a:t>КАРДИОРЕСПИРАТОРНИ СИСТЕМ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Симптоми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Интолеранција напор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Гушење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Знаци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Промуклост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Брадикардиј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Умерена хипертензиј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Перикардна ефузиј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Плеурална ефузија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Сни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жена волтаж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Синусна брадикардија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Перикардна ефузија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990720" y="0"/>
            <a:ext cx="81532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ff0000"/>
                </a:solidFill>
                <a:latin typeface="Arial"/>
                <a:ea typeface="Arial"/>
              </a:rPr>
              <a:t>КОЖА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Симптоми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Сува, хладна, перутава кож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Надутост лиц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Губитак кос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Крти нокти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Знаци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Еластични едеми лица, руку и подколениц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Периорбитални едем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Хладна кож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Бледо-жута кожа (анемија+хиперкаротинемија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Суве аксил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Промене косе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ff0000"/>
                </a:solidFill>
                <a:latin typeface="Arial"/>
                <a:ea typeface="Arial"/>
              </a:rPr>
              <a:t>ХЕМАТОЛОШКЕ ПРОМЕНЕ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Умерена нормоцитна, нормохромна анемија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Микроцитна, хипохромна анемија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Пернициозна анемија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sl-SI" sz="2200" spc="-1" strike="noStrike">
                <a:solidFill>
                  <a:srgbClr val="ff0000"/>
                </a:solidFill>
                <a:latin typeface="Arial"/>
                <a:ea typeface="Arial"/>
              </a:rPr>
              <a:t>БИОХЕМИЈСКЕ ПРОМЕНЕ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Метаболизма гликоз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Смањена деградација инсулина (повећана осетљивост на егзогени инсулин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Метаболизма липид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Пораст фосфолипида,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укупни </a:t>
            </a:r>
            <a:r>
              <a:rPr b="1" lang="sl-SI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Хол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естерол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, ЛДЛ, ТАГ и снижен ХДЛ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Ензимски профил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Пораст ензима скелетних мишића: ЦПК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  <a:ea typeface="Arial"/>
              </a:rPr>
              <a:t>БОЛЕСТИ ШТИТАСТЕ ЖЛЕЗДЕ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066320" y="14475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0000"/>
                </a:solidFill>
                <a:latin typeface="Arial"/>
                <a:ea typeface="Arial"/>
              </a:rPr>
              <a:t>Поремећаји морфологије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Агенезија, аплазија, хипоплазија и ектопија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трума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Дифузна струма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Нодозна струма (уни и полинодозна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0000"/>
                </a:solidFill>
                <a:latin typeface="Arial"/>
                <a:ea typeface="Arial"/>
              </a:rPr>
              <a:t>Поремећаји функције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Хиперфункиција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Хипофункција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0000"/>
                </a:solidFill>
                <a:latin typeface="Arial"/>
                <a:ea typeface="Arial"/>
              </a:rPr>
              <a:t>Запаљења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Акутна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Субакутна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Хронична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990720" y="0"/>
            <a:ext cx="815328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  <a:ea typeface="Arial"/>
              </a:rPr>
              <a:t>МИКСЕДЕМСКА КОМА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Завршни стадијум тешког, дуготрајног и нелеченог хипотиреоидизма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spcAft>
                <a:spcPts val="414"/>
              </a:spcAft>
              <a:buClr>
                <a:srgbClr val="ffff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Дешава се код 0.1% случајева хипотироидизма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Врло редак код особа &lt;50 година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50% случајева постаје евидентно тек са хоспитализацијом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Морталитет је 100% код нелечених, 50% код лечених пац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Најчешће се презентује зими (изложеност хладноћи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КОМПЛИКАЦИЈЕ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10663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Симптоми и знаци обухватају: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ниску т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успорено дисање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хипотензију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хипогликемију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неадекватан одговор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Депресија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Срчана слабост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Повећан ризик за инфекцију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Инфертилитет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Побачај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Компликације услед предозирања супституционом терапијом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Атријална фибрилација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Остеопороза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Симптоми хипертироидизма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2"/>
          <p:cNvSpPr/>
          <p:nvPr/>
        </p:nvSpPr>
        <p:spPr>
          <a:xfrm>
            <a:off x="1066680" y="-120960"/>
            <a:ext cx="80773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ПРЕЦИПИТИШУЋИ ФАКТОР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3"/>
          <p:cNvSpPr/>
          <p:nvPr/>
        </p:nvSpPr>
        <p:spPr>
          <a:xfrm>
            <a:off x="1219320" y="1523880"/>
            <a:ext cx="7624800" cy="42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8080" indent="-208080">
              <a:lnSpc>
                <a:spcPct val="100000"/>
              </a:lnSpc>
              <a:spcAft>
                <a:spcPts val="414"/>
              </a:spcAft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Излагање хладноћи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Aft>
                <a:spcPts val="414"/>
              </a:spcAft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Инфекција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Aft>
                <a:spcPts val="414"/>
              </a:spcAft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Пнеумонија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Aft>
                <a:spcPts val="414"/>
              </a:spcAft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ИУТ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Aft>
                <a:spcPts val="414"/>
              </a:spcAft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Траума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Aft>
                <a:spcPts val="414"/>
              </a:spcAft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ЦНС депресори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Aft>
                <a:spcPts val="414"/>
              </a:spcAft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Наркотици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Aft>
                <a:spcPts val="414"/>
              </a:spcAft>
              <a:buSzPct val="1029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Барбитурати, транкилизери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Aft>
                <a:spcPts val="414"/>
              </a:spcAft>
              <a:buSzPct val="10290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Општи анестетици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Aft>
                <a:spcPts val="414"/>
              </a:spcAft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Цереброваскуларни акциденти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Aft>
                <a:spcPts val="414"/>
              </a:spcAft>
              <a:buSzPct val="10290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Конгестивна СИ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2"/>
          <p:cNvSpPr/>
          <p:nvPr/>
        </p:nvSpPr>
        <p:spPr>
          <a:xfrm>
            <a:off x="395280" y="679320"/>
            <a:ext cx="874872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3"/>
          <p:cNvSpPr/>
          <p:nvPr/>
        </p:nvSpPr>
        <p:spPr>
          <a:xfrm>
            <a:off x="1066680" y="304920"/>
            <a:ext cx="7620120" cy="45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Типична презентација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45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Уобичајени симптоми и знаци хипотироидизма плус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414"/>
              </a:spcAft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Хипотермија (80 % случајева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414"/>
              </a:spcAft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Хипотензија / брадикардија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414"/>
              </a:spcAft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хиповентилација / респираторна слабост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414"/>
              </a:spcAft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Илеус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414"/>
              </a:spcAft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Снижен ментални статус / кома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 Box 2"/>
          <p:cNvSpPr/>
          <p:nvPr/>
        </p:nvSpPr>
        <p:spPr>
          <a:xfrm>
            <a:off x="1143000" y="267120"/>
            <a:ext cx="800100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УРГЕНТНА ТЕРАПИЈ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3"/>
          <p:cNvSpPr/>
          <p:nvPr/>
        </p:nvSpPr>
        <p:spPr>
          <a:xfrm>
            <a:off x="1066680" y="1295280"/>
            <a:ext cx="7848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50840" indent="-150840">
              <a:lnSpc>
                <a:spcPct val="100000"/>
              </a:lnSpc>
              <a:spcAft>
                <a:spcPts val="414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ntubation / ventilation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spcAft>
                <a:spcPts val="414"/>
              </a:spcAft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Проверити гликемију, +/- IV D50  +/-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Naloxon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spcAft>
                <a:spcPts val="414"/>
              </a:spcAft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ydrocortison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100-250 mg IVP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spcAft>
                <a:spcPts val="414"/>
              </a:spcAft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Споро загревање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spcAft>
                <a:spcPts val="414"/>
              </a:spcAft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hyroxin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(T4) 500 mcg IV, затим 50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cg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spcAft>
                <a:spcPts val="414"/>
              </a:spcAft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додати 25 mcg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riiodothyronin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(T3) P.O. или NG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spcAft>
                <a:spcPts val="414"/>
              </a:spcAft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Пажљива IV надокнада течности (СИ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spcAft>
                <a:spcPts val="414"/>
              </a:spcAft>
              <a:buSzPct val="1029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Пратити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S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, треба да опадне за 24h и нормализује за 7 дана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  <a:ea typeface="Arial"/>
              </a:rPr>
              <a:t>ДИЈАГНОЗА</a:t>
            </a:r>
            <a:r>
              <a:rPr b="1" lang="sl-SI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7696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фТ4 и ТСХ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Маркери аутоимунског процеса (</a:t>
            </a:r>
            <a:r>
              <a:rPr b="1" i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АнтиТ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1" i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О А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Ултразвучни преглед штитасте жлезде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Допунска дијагностика: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Анализе крви (ККС, гликемија, липидограм, биохуморални синдром некрозе миоцита, азотне материје у крви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Тестирање кардиоваскуларне функције (ЕКГ, Ртг пулмо, Ултразвучни преглед срца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  <a:ea typeface="Arial"/>
              </a:rPr>
              <a:t>ДИФЕРЕНЦИЈАЛНА ДИЈАГНОЗА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Хронична бубрежна инсуфицијенција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Психијатријски поремећаји у старијих особа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Пернициозна анемија у старијих особа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Конгестивна срчана инсуфицијенција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  <a:ea typeface="Arial"/>
              </a:rPr>
              <a:t>ЛЕК ИЗБОРА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1066680" y="12193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L-thyroxin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Т4 - синтет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чки лeвотирoксин) је лeк избора za лечeњe и примарног и секундарног (“централног“) хипoтиреоидизма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Апсорбује се до 80% унете дозе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Главно место апсорпције је дуоденум (20%), горњи (40%) и доњи (40%) јејунум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Присуство хране може знатно да умањи апсорпцију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  <a:ea typeface="Arial"/>
              </a:rPr>
              <a:t>ЛЕК ИЗБОРА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1066320" y="1295280"/>
            <a:ext cx="80773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Таблета се узима цела, неподељен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ујутру, наштину, најмање 30-60 мин пре првог дневног оброка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Лек се 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з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има са водо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а други лекови тек после 2 сата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Најни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ж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а доза која олакшава симптоме и доводи до нормализације резултата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Током увођења терапије упозорити пацијента на могуће 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споредне ефект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: палпитације, узнемиреност, поремећај сна, главобољ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До постизања циљних вредности, контролисати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Т4 и Т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H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на 6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8 недељ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Корекције дозе се врше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на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25мцг левотироксина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ФАКТОРИ КОЈИ УТИЧУ НА АПСОРПЦИЈУ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Препарати калцијума, алуминијума и гвожђа смањују апсорпцију ЛТ4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Протеини из соје смањују апсорпцију ЛТ4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Кафа смањује апсорпцију ЛТ4 за 32%</a:t>
            </a:r>
            <a:r>
              <a:rPr b="1" lang="sr-Latn-CS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*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Болести желуца праћене хипоацидитетом (ХБП инфекција, атрофични гастритис, примена Х-блокатора) и малапсорптивни синдроми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Витамин Ц у дози од 1г повећава апсорпцију ЛТ4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СТРУМА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066320" y="12952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ТРУМА (гушавост) је увећање штитасте жлезде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Поде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ифузна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одуларна (уни или мултинодуларна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Етиолог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ефекти у биосинтези хормона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ефицит јода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Запаљења (акутна, субакутна и хронична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умори штитасте жлезде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  <a:ea typeface="Arial"/>
              </a:rPr>
              <a:t>ЦИЉ ТЕРАПИЈЕ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1066680" y="167652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Примарни хипотиреоидизам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: вредности </a:t>
            </a:r>
            <a:r>
              <a:rPr b="0" i="1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H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 у референтним опсезима (идеално 1.0-2.5 мИУ/мЛ) уз потпуно повлачење клиничких симптома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Секундарни хипотиреоидизам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: постизање вредности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Т4 у референтним опсезима (идеално на половини распона референтних ведности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sr-Latn-CS" sz="2900" spc="-1" strike="noStrike">
                <a:solidFill>
                  <a:srgbClr val="ff0000"/>
                </a:solidFill>
                <a:latin typeface="Arial"/>
                <a:ea typeface="Arial"/>
              </a:rPr>
              <a:t>УВОЂЕЊЕ И ПОДЕШАВАЊЕ ТЕРАПИЈЕ</a:t>
            </a:r>
            <a:endParaRPr b="0" lang="en-US" sz="2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90720" y="155700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Када се постигне адекватна супституција, доза је код већине пацијената константна и обично нису потребне веће корекције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Код неких особа постоје сезонске варијације у дозирању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i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hyroxine</a:t>
            </a:r>
            <a:r>
              <a:rPr b="0" i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је лек са малом терапијском ширином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900" spc="-1" strike="noStrike">
                <a:solidFill>
                  <a:srgbClr val="ff0000"/>
                </a:solidFill>
                <a:latin typeface="Arial"/>
                <a:ea typeface="Arial"/>
              </a:rPr>
              <a:t>Хипотиреоидиз</a:t>
            </a:r>
            <a:r>
              <a:rPr b="1" lang="en-US" sz="2900" spc="-1" strike="noStrike">
                <a:solidFill>
                  <a:srgbClr val="ff0000"/>
                </a:solidFill>
                <a:latin typeface="Arial"/>
                <a:ea typeface="Arial"/>
              </a:rPr>
              <a:t>а</a:t>
            </a:r>
            <a:r>
              <a:rPr b="1" lang="sr-Latn-CS" sz="2900" spc="-1" strike="noStrike">
                <a:solidFill>
                  <a:srgbClr val="ff0000"/>
                </a:solidFill>
                <a:latin typeface="Arial"/>
                <a:ea typeface="Arial"/>
              </a:rPr>
              <a:t>м и инвазивне процедуре</a:t>
            </a:r>
            <a:endParaRPr b="0" lang="en-US" sz="2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7829640" cy="41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Нелечен или недовољно лечен хипотиреоидизам није апсолутна контраиндикација за: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Коронарну ангиопластику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Коронар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ну бај-пас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хирургију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Ургентне хируршке интервенције (са елективним интервенција треба сачекати до постизања супституције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СТАРИЈА ПОПУЛАЦИЈА И ОСОБЕ СА ИСХЕМИЈСКОМ БОЛЕШЋУ СРЦА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81532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Иницијална доза је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25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мц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г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дневно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Доза се повећава у временским интервалим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2-3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недеље у инкрементима од 12.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25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мц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г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Хипотиреоза је подмукла болест која се развија полако, навикава и пацијента и његову околину на своје постојање, сурово отупљује пацијента, а све их уљуљкује у незаинтересованост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  <a:ea typeface="Arial"/>
              </a:rPr>
              <a:t>ТРУДНОЋА И ХИПОТИРЕОИДИЗАМ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44%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жена са хипотиреоидизмом је  престало да узима супституциону терапију након сазнања да су трудне (неке по савету здравствених професионалаца!)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  <a:ea typeface="Arial"/>
              </a:rPr>
              <a:t>ТРУДНОЋА И ХИПОТИРЕОИДИЗАМ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Жене са хипотиреоидизмом у репродуктивном периоду треба едуковати о трудноћи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Трудноћа код њих треба да буде планирана и у тренутку концепције супституција мора бити одлична (Т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H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&lt;2.5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IU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L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, по неким ауторима 0,5-1.0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IU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L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Сваки, чак и субклинички хипотиреоидизам мајке може да утиче на неурокогнитивне функције потомстваУ трудноћи се доза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1" i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hyroxine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-а повећава за 2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50%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  <a:ea typeface="Arial"/>
              </a:rPr>
              <a:t>ТРУДНОЋА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Контрола тиреоидног статуса у трудноћи је почетком сваког триместр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Након порођаја доза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i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hyroxine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-а се враћа на вредности пре трудноћ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Након порођаја контрола тиреоидног статуса врши се након 6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8 недељ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Код свих трудница (са и без анамнезе о болести штитасте жлезде) треба проверити тиреоидну функцију у првом тромесечју трудноће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720" y="640080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200" spc="-1" strike="noStrike">
                <a:solidFill>
                  <a:srgbClr val="572314"/>
                </a:solidFill>
                <a:latin typeface="Arial"/>
                <a:ea typeface="Arial"/>
              </a:rPr>
              <a:t>  </a:t>
            </a:r>
            <a:r>
              <a:rPr b="0" i="1" lang="en-US" sz="1200" spc="-1" strike="noStrike">
                <a:solidFill>
                  <a:srgbClr val="572314"/>
                </a:solidFill>
                <a:latin typeface="Arial"/>
                <a:ea typeface="Arial"/>
              </a:rPr>
              <a:t>DeGroot LJ, Abalovich M, Erik K, et al. Management of thyroid dysfunction during pregnancy and postpartum: an </a:t>
            </a:r>
            <a:r>
              <a:rPr b="0" i="1" lang="sr-Latn-CS" sz="1200" spc="-1" strike="noStrike">
                <a:solidFill>
                  <a:srgbClr val="572314"/>
                </a:solidFill>
                <a:latin typeface="Arial"/>
                <a:ea typeface="Arial"/>
              </a:rPr>
              <a:t>    </a:t>
            </a:r>
            <a:r>
              <a:rPr b="0" i="1" lang="en-US" sz="1200" spc="-1" strike="noStrike">
                <a:solidFill>
                  <a:srgbClr val="572314"/>
                </a:solidFill>
                <a:latin typeface="Arial"/>
                <a:ea typeface="Arial"/>
              </a:rPr>
              <a:t>Endocrine Society clinical practice guideline. J Clin Endocrinol Metab </a:t>
            </a:r>
            <a:r>
              <a:rPr b="0" i="1" lang="sr-CS" sz="1200" spc="-1" strike="noStrike">
                <a:solidFill>
                  <a:srgbClr val="572314"/>
                </a:solidFill>
                <a:latin typeface="Corbel"/>
                <a:ea typeface="Arial"/>
              </a:rPr>
              <a:t>97:2543-2565,2012</a:t>
            </a:r>
            <a:r>
              <a:rPr b="0" i="1" lang="sr-CS" sz="1200" spc="-1" strike="noStrike">
                <a:solidFill>
                  <a:srgbClr val="572314"/>
                </a:solidFill>
                <a:latin typeface="Corbel"/>
              </a:rPr>
              <a:t>.</a:t>
            </a:r>
            <a:r>
              <a:rPr b="0" i="1" lang="en-US" sz="12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12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1066680" y="228600"/>
          <a:ext cx="8077320" cy="6172200"/>
        </p:xfrm>
        <a:graphic>
          <a:graphicData uri="http://schemas.openxmlformats.org/drawingml/2006/table">
            <a:tbl>
              <a:tblPr/>
              <a:tblGrid>
                <a:gridCol w="8077320"/>
              </a:tblGrid>
              <a:tr h="112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Препорука за циљано тестирање тироидне функције у преконцепцијском периоду, или у раној трудноћи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eeafc"/>
                    </a:solidFill>
                  </a:tcPr>
                </a:tc>
              </a:tr>
              <a:tr h="432000">
                <a:tc>
                  <a:txBody>
                    <a:bodyPr lIns="68760" rIns="68760" tIns="0" bIns="0" anchor="t">
                      <a:noAutofit/>
                    </a:bodyPr>
                    <a:p>
                      <a:pPr marL="68256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Жене старије од</a:t>
                      </a:r>
                      <a:r>
                        <a:rPr b="1" lang="sr-Latn-R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30 </a:t>
                      </a: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годин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afc"/>
                    </a:solidFill>
                  </a:tcPr>
                </a:tc>
              </a:tr>
              <a:tr h="433440">
                <a:tc>
                  <a:txBody>
                    <a:bodyPr lIns="68760" rIns="68760" tIns="0" bIns="0" anchor="t">
                      <a:noAutofit/>
                    </a:bodyPr>
                    <a:p>
                      <a:pPr marL="68256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Жене са породичном анамнезом АИТБ или хипотироидизм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afc"/>
                    </a:solidFill>
                  </a:tcPr>
                </a:tc>
              </a:tr>
              <a:tr h="431640">
                <a:tc>
                  <a:txBody>
                    <a:bodyPr lIns="68760" rIns="68760" tIns="0" bIns="0" anchor="t">
                      <a:noAutofit/>
                    </a:bodyPr>
                    <a:p>
                      <a:pPr marL="68256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остојање струме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afc"/>
                    </a:solidFill>
                  </a:tcPr>
                </a:tc>
              </a:tr>
              <a:tr h="433440">
                <a:tc>
                  <a:txBody>
                    <a:bodyPr lIns="68760" rIns="68760" tIns="0" bIns="0" anchor="t">
                      <a:noAutofit/>
                    </a:bodyPr>
                    <a:p>
                      <a:pPr marL="68256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озитивна тироидна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t</a:t>
                      </a: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(посебно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POAt</a:t>
                      </a: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afc"/>
                    </a:solidFill>
                  </a:tcPr>
                </a:tc>
              </a:tr>
              <a:tr h="463680">
                <a:tc>
                  <a:txBody>
                    <a:bodyPr lIns="68760" rIns="68760" tIns="0" bIns="0" anchor="t">
                      <a:noAutofit/>
                    </a:bodyPr>
                    <a:p>
                      <a:pPr marL="68256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имптоми или клинички знаци поремећаја функције тироидее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afc"/>
                    </a:solidFill>
                  </a:tcPr>
                </a:tc>
              </a:tr>
              <a:tr h="433080">
                <a:tc>
                  <a:txBody>
                    <a:bodyPr lIns="68760" rIns="68760" tIns="0" bIns="0" anchor="t">
                      <a:noAutofit/>
                    </a:bodyPr>
                    <a:p>
                      <a:pPr marL="68256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Жене са ДМ1 или другим аутоимунским болестима</a:t>
                      </a:r>
                      <a:r>
                        <a:rPr b="1" lang="sr-Latn-R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afc"/>
                    </a:solidFill>
                  </a:tcPr>
                </a:tc>
              </a:tr>
              <a:tr h="432000">
                <a:tc>
                  <a:txBody>
                    <a:bodyPr lIns="68760" rIns="68760" tIns="0" bIns="0" anchor="t">
                      <a:noAutofit/>
                    </a:bodyPr>
                    <a:p>
                      <a:pPr marL="68256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Инфертилитет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afc"/>
                    </a:solidFill>
                  </a:tcPr>
                </a:tc>
              </a:tr>
              <a:tr h="433440">
                <a:tc>
                  <a:txBody>
                    <a:bodyPr lIns="68760" rIns="68760" tIns="0" bIns="0" anchor="t">
                      <a:noAutofit/>
                    </a:bodyPr>
                    <a:p>
                      <a:pPr marL="68256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Жене са анамнезом претходних побачаја и превременим порођајем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afc"/>
                    </a:solidFill>
                  </a:tcPr>
                </a:tc>
              </a:tr>
              <a:tr h="693720">
                <a:tc>
                  <a:txBody>
                    <a:bodyPr lIns="68760" rIns="68760" tIns="0" bIns="0" anchor="t">
                      <a:noAutofit/>
                    </a:bodyPr>
                    <a:p>
                      <a:pPr marL="68256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Жене са претходном радиотерапијом врата или оп.тироидее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afc"/>
                    </a:solidFill>
                  </a:tcPr>
                </a:tc>
              </a:tr>
              <a:tr h="431640">
                <a:tc>
                  <a:txBody>
                    <a:bodyPr lIns="68760" rIns="68760" tIns="0" bIns="0" anchor="t">
                      <a:noAutofit/>
                    </a:bodyPr>
                    <a:p>
                      <a:pPr marL="68256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Жене које су на супституционој терапији Л-тироксином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afc"/>
                    </a:solidFill>
                  </a:tcPr>
                </a:tc>
              </a:tr>
              <a:tr h="433440">
                <a:tc>
                  <a:txBody>
                    <a:bodyPr lIns="68760" rIns="68760" tIns="0" bIns="0" anchor="t">
                      <a:noAutofit/>
                    </a:bodyPr>
                    <a:p>
                      <a:pPr marL="68256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Жене које живе у јод дефицитним подручјим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af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990720" y="685440"/>
            <a:ext cx="8153280" cy="56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давне студије су показале да у око 95% трудница без АИТБ вредност ТСХ 0.03-2.5 мИУ/Л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ксперти препоручују следеће триместар специфичне референтне вредности за ТСХ током трудноће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sr-Latn-R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0.1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2.5 mIU/L (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trimestar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0.2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3.0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mIU/L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(2. trimestar)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0.3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3.0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mIU/L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(3. trimestar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100" spc="-1" strike="noStrike">
                <a:solidFill>
                  <a:srgbClr val="7030a0"/>
                </a:solidFill>
                <a:latin typeface="Arial"/>
                <a:ea typeface="Arial"/>
              </a:rPr>
              <a:t>          </a:t>
            </a:r>
            <a:r>
              <a:rPr b="1" i="1" lang="sr-Latn-CS" sz="1300" spc="-1" strike="noStrike">
                <a:solidFill>
                  <a:srgbClr val="7030a0"/>
                </a:solidFill>
                <a:latin typeface="Arial"/>
                <a:ea typeface="Arial"/>
              </a:rPr>
              <a:t>Allan WC, Haddow JE, Palomaki GE, Williams JR, Mitchell ML, Hermos RJ, et al.Maternal thyroid deficiency and pregnancy complications: implications forpopulation screening. J Med Screen 2000;7(3):127–30</a:t>
            </a:r>
            <a:r>
              <a:rPr b="1" lang="sr-Latn-CS" sz="1300" spc="-1" strike="noStrike">
                <a:solidFill>
                  <a:srgbClr val="7030a0"/>
                </a:solidFill>
                <a:latin typeface="Arial"/>
                <a:ea typeface="Arial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76" name="Frame 3"/>
          <p:cNvGrpSpPr/>
          <p:nvPr/>
        </p:nvGrpSpPr>
        <p:grpSpPr>
          <a:xfrm>
            <a:off x="2816280" y="2077920"/>
            <a:ext cx="4809960" cy="2901960"/>
            <a:chOff x="2816280" y="2077920"/>
            <a:chExt cx="4809960" cy="2901960"/>
          </a:xfrm>
        </p:grpSpPr>
        <p:pic>
          <p:nvPicPr>
            <p:cNvPr id="477" name="Frame 3" descr=""/>
            <p:cNvPicPr/>
            <p:nvPr/>
          </p:nvPicPr>
          <p:blipFill>
            <a:blip r:embed="rId1"/>
            <a:stretch/>
          </p:blipFill>
          <p:spPr>
            <a:xfrm>
              <a:off x="2816280" y="2077920"/>
              <a:ext cx="4809960" cy="290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3225960" y="2463840"/>
              <a:ext cx="3987720" cy="20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СУПРЕСИВНА ТЕРАПИЈА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L 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-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thyroxine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-ом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8153280" cy="36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Примењује се након хируршких и радиотерапијских процедура у лечењу диферентованих тумора штитасте жлезде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Супресивна доза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1" i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hyroxine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-а омогућава одржавање вредности Т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H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испод могућности лабораторијске детекције (обично &lt;0.1мИУ/мЛ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ДИФУЗНА СТРУМА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990720" y="1295280"/>
            <a:ext cx="81532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увећање штитасте жлезде у целини уз одсуство нодус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оде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аћена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нормалн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функцијом штитасте жлезде (еутироидна, нетоксична ил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ma diffusa simpl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аћена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дисфункциј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штитасте жлезде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тиреоидизмом (нпр. у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yreoiditis chr. Hashimo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ерфункцијом (нпр. у М.Гравес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STRUMA DIFUSA SIMPLEX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61760" y="114300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увећање штитасте жлезде у целини уз одсуство нодуса при чему је функција штитасте жлезде нормална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Епидемиологиј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 око 10% популације, однос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ж:м=8: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Подел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Ендемск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 &gt;10% становништва има струму, подручја са недовољном количином Ј (дневне потребе су 100-150µг јода, недостатак јода ако је дневна екскреција Ј урином &lt;10µг/дЛ)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ен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демск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(обично непознатог узрока): бх поремећаји у синтези тир. хормона (транспорт Ј, синтеза ТГ), експозиција струмогенима (тиоцијанати из поврћа - купус)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1" name="Picture 5" descr="D:\Documents and Settings\Users\Violeta Mladenovic\Desktop\STRUMA\imagesLGCOK62Z.jpg"/>
          <p:cNvPicPr/>
          <p:nvPr/>
        </p:nvPicPr>
        <p:blipFill>
          <a:blip r:embed="rId1"/>
          <a:stretch/>
        </p:blipFill>
        <p:spPr>
          <a:xfrm>
            <a:off x="6477120" y="2438280"/>
            <a:ext cx="24382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30T16:05:40Z</dcterms:created>
  <dc:creator>Bill Gates</dc:creator>
  <dc:description/>
  <dc:language>en-US</dc:language>
  <cp:lastModifiedBy>ismail - [2010]</cp:lastModifiedBy>
  <dcterms:modified xsi:type="dcterms:W3CDTF">2018-01-28T20:55:44Z</dcterms:modified>
  <cp:revision>198</cp:revision>
  <dc:subject/>
  <dc:title>PATOLOŠKA FIZIOLOGIJA ENDOKRINOG SISTEMA</dc:title>
</cp:coreProperties>
</file>