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73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gif" ContentType="image/gif"/>
  <Override PartName="/ppt/media/image1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0.png" ContentType="image/png"/>
  <Override PartName="/ppt/media/image34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6.png" ContentType="image/png"/>
  <Override PartName="/ppt/media/image5.jpeg" ContentType="image/jpeg"/>
  <Override PartName="/ppt/media/image26.jpeg" ContentType="image/jpeg"/>
  <Override PartName="/ppt/media/image12.jpeg" ContentType="image/jpeg"/>
  <Override PartName="/ppt/media/image4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  <p:sldId id="317" r:id="rId81"/>
    <p:sldId id="318" r:id="rId82"/>
    <p:sldId id="319" r:id="rId83"/>
    <p:sldId id="320" r:id="rId84"/>
    <p:sldId id="321" r:id="rId85"/>
    <p:sldId id="322" r:id="rId86"/>
    <p:sldId id="323" r:id="rId87"/>
    <p:sldId id="324" r:id="rId88"/>
    <p:sldId id="325" r:id="rId89"/>
    <p:sldId id="326" r:id="rId90"/>
    <p:sldId id="327" r:id="rId91"/>
    <p:sldId id="328" r:id="rId92"/>
    <p:sldId id="329" r:id="rId93"/>
    <p:sldId id="330" r:id="rId94"/>
    <p:sldId id="331" r:id="rId95"/>
    <p:sldId id="332" r:id="rId96"/>
    <p:sldId id="333" r:id="rId97"/>
    <p:sldId id="334" r:id="rId98"/>
    <p:sldId id="335" r:id="rId99"/>
    <p:sldId id="336" r:id="rId100"/>
    <p:sldId id="337" r:id="rId101"/>
    <p:sldId id="338" r:id="rId102"/>
    <p:sldId id="339" r:id="rId103"/>
    <p:sldId id="340" r:id="rId104"/>
    <p:sldId id="341" r:id="rId105"/>
    <p:sldId id="342" r:id="rId106"/>
    <p:sldId id="343" r:id="rId107"/>
    <p:sldId id="344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slide" Target="slides/slide62.xml"/><Relationship Id="rId82" Type="http://schemas.openxmlformats.org/officeDocument/2006/relationships/slide" Target="slides/slide63.xml"/><Relationship Id="rId83" Type="http://schemas.openxmlformats.org/officeDocument/2006/relationships/slide" Target="slides/slide64.xml"/><Relationship Id="rId84" Type="http://schemas.openxmlformats.org/officeDocument/2006/relationships/slide" Target="slides/slide65.xml"/><Relationship Id="rId85" Type="http://schemas.openxmlformats.org/officeDocument/2006/relationships/slide" Target="slides/slide66.xml"/><Relationship Id="rId86" Type="http://schemas.openxmlformats.org/officeDocument/2006/relationships/slide" Target="slides/slide67.xml"/><Relationship Id="rId87" Type="http://schemas.openxmlformats.org/officeDocument/2006/relationships/slide" Target="slides/slide68.xml"/><Relationship Id="rId88" Type="http://schemas.openxmlformats.org/officeDocument/2006/relationships/slide" Target="slides/slide69.xml"/><Relationship Id="rId89" Type="http://schemas.openxmlformats.org/officeDocument/2006/relationships/slide" Target="slides/slide70.xml"/><Relationship Id="rId90" Type="http://schemas.openxmlformats.org/officeDocument/2006/relationships/slide" Target="slides/slide71.xml"/><Relationship Id="rId91" Type="http://schemas.openxmlformats.org/officeDocument/2006/relationships/slide" Target="slides/slide72.xml"/><Relationship Id="rId92" Type="http://schemas.openxmlformats.org/officeDocument/2006/relationships/slide" Target="slides/slide73.xml"/><Relationship Id="rId93" Type="http://schemas.openxmlformats.org/officeDocument/2006/relationships/slide" Target="slides/slide74.xml"/><Relationship Id="rId94" Type="http://schemas.openxmlformats.org/officeDocument/2006/relationships/slide" Target="slides/slide75.xml"/><Relationship Id="rId95" Type="http://schemas.openxmlformats.org/officeDocument/2006/relationships/slide" Target="slides/slide76.xml"/><Relationship Id="rId96" Type="http://schemas.openxmlformats.org/officeDocument/2006/relationships/slide" Target="slides/slide77.xml"/><Relationship Id="rId97" Type="http://schemas.openxmlformats.org/officeDocument/2006/relationships/slide" Target="slides/slide78.xml"/><Relationship Id="rId98" Type="http://schemas.openxmlformats.org/officeDocument/2006/relationships/slide" Target="slides/slide79.xml"/><Relationship Id="rId99" Type="http://schemas.openxmlformats.org/officeDocument/2006/relationships/slide" Target="slides/slide80.xml"/><Relationship Id="rId100" Type="http://schemas.openxmlformats.org/officeDocument/2006/relationships/slide" Target="slides/slide81.xml"/><Relationship Id="rId101" Type="http://schemas.openxmlformats.org/officeDocument/2006/relationships/slide" Target="slides/slide82.xml"/><Relationship Id="rId102" Type="http://schemas.openxmlformats.org/officeDocument/2006/relationships/slide" Target="slides/slide83.xml"/><Relationship Id="rId103" Type="http://schemas.openxmlformats.org/officeDocument/2006/relationships/slide" Target="slides/slide84.xml"/><Relationship Id="rId104" Type="http://schemas.openxmlformats.org/officeDocument/2006/relationships/slide" Target="slides/slide85.xml"/><Relationship Id="rId105" Type="http://schemas.openxmlformats.org/officeDocument/2006/relationships/slide" Target="slides/slide86.xml"/><Relationship Id="rId106" Type="http://schemas.openxmlformats.org/officeDocument/2006/relationships/slide" Target="slides/slide87.xml"/><Relationship Id="rId107" Type="http://schemas.openxmlformats.org/officeDocument/2006/relationships/slide" Target="slides/slide88.xml"/><Relationship Id="rId108" Type="http://schemas.openxmlformats.org/officeDocument/2006/relationships/slide" Target="slides/slide89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1FAE-5120-473E-A6E8-C9E22519B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CA9E-DF2A-4138-8DA6-EFC7AB174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7BB4-8B55-4A6B-B002-3330E6801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8F0C-D93C-43AA-9C09-B22BA250D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9C03-4E5A-4ECB-8C2B-8D2235433E1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0B15-0DB7-4E1D-8DB3-9D117023EA5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DA00-38B0-4F2E-B240-EDCF5993FFA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B053-5F70-482B-AF94-72CFBF69E01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A294-9BA7-4B68-B829-164C2BDEAB9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CCF1-01FE-48B2-BABA-636B24B27CF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30B9-7A75-4B9C-A450-D278B12C9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FB6E-EB57-4615-A9EF-02BE33C754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hypothyroidism is a very rare condition where damage to the pituitary gland damages cells that secrete TSH (thyroid stimulating hormone) which stimulates the thyroid to produce normal levels of thyroid 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F789-B81D-4031-A0FA-7B44DAC7F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5139-7634-4206-9444-2FD8B50082CC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69F7-B05A-437E-8268-819DE6C58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BF9-7537-4FC6-A7DD-5EAD42C5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5B00-77D4-4085-B90F-D234BEFF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2B474-C4FA-4C0D-91EF-AF2CEABB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0E5CF-DFEA-4BB2-9FE1-B731B977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5AB41-10B6-4D49-9DFB-C9DA5CDE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51AD3-DA6B-413A-A0A2-0A6790F3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129EE-8BAC-4C6F-8478-3C42EA14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E1CB6-6038-401D-A07D-4138F56C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C31F6-00A7-4B7F-8218-D2FD5890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59475-915D-4AF8-AA79-F9DE6947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9A581-4C19-4036-8CDB-641249B6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9B829-04DF-43FF-9FDF-D12E9038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FA7A-857F-4406-BFC4-754676CE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B0C7F-B43D-4FF5-8E49-9965184E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0EB2D-8997-4DA9-9599-DB8E252F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184AB-A056-41FE-BC0B-59972E26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C780A-F22F-4CDD-A861-5419513F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CA370-745E-4A27-AE3A-663C9AF7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90C9C-1A9C-47FC-9217-6278B76F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29C0E-0A18-4674-8ACD-B901F92C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9BB4B-67EF-41BE-85A8-090E538B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D7D8D-3512-4CBB-ADCA-3099479B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373EA-CAD5-4529-AE64-32937325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50C1-42F2-4C84-8D1F-8320198D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677A4-D1BC-4E72-AA25-76E8557B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FDB00-E4A3-4720-9D77-34C44DEA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5EAE5-C8AD-46F1-9167-3D2CDC2B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627EC-86F9-40A1-8AAD-5558AFFE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11F9E-2E9F-4613-82CA-BB5AA806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D4BC0-9E9A-4F11-A37E-A5E6D291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06992-C048-4ACF-833E-D414EFBF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206E0-E5B4-4688-870C-68D44336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268B8-C990-478A-B8B5-3DA045CF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5A60F-C21D-4688-A61D-B34CA787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46EF-2605-42A0-928C-51C68EEB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67C93-33F2-4D5F-AD2F-B4AA637D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F5977-81AA-4DF2-AF9B-720279DD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5E613-FBC8-429C-BC5F-88933083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114C8-EFA4-4B0F-A193-C9D29F16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AEC95-EDAF-41A2-8B7C-BB28A094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EB31B-DB13-4B1A-BEB2-33E17962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D4998-8D08-44BE-8157-B2BAC76B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216D3-14FE-406B-B6E1-B8737431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6C824-D581-44F7-B0BA-49FA47F6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C231B-9CD8-4880-A23C-8B4D8C68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D2D3-0468-49D1-B769-AC463076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C4EAC-05E9-40D5-828C-5A108DD9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A38C7-5D77-4ECD-A941-01D4ABAE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A32A4-C49D-4CFE-9E65-97030AC0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772C2-05B1-42D8-B416-D7FFCA3E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B3E4C-E4A0-4986-A23C-A82B50E9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874C0-A24F-41A2-A3C5-B8CBFB9A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FFBF0-1CDD-447A-BFA1-09C9C9A7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1224B-607A-4F48-92A2-D22C1DEE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37EE2-EF48-4672-82B3-B63701B1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77A7B9-E187-4A94-BA1E-A29A0C43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EC06-69A6-4A33-98C2-191AE22D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8228EA-363A-4C17-9735-3CB5E598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A33F3-7B04-4FC2-85B0-9AA9DB7C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3B03F-8C45-429A-A4DD-7202D0E0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519E5-047A-4B9D-9B47-3798697A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6B8BB-FC69-47D8-8C34-14790A9E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7240FA-41F9-467C-AC83-5E060AAE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B23787-C124-4CAE-9C9C-9E334BB9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CD156-C5EA-4514-9717-CB0C42FC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6DA50B-EE1F-49DF-B355-994D26DA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4EECD5-9F4C-465F-A216-952258FD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B00A-151F-454B-B2CD-17D20E4A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B9B91-40AD-4232-902D-F794A412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332C7B-7B4C-402B-B67A-C3C2E0C2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29A2D9-C455-4261-B210-0845374B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67CD35-ED3E-4030-9A58-ECCCD9E0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C10AC0-36F5-474A-8C4B-E35AF663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189ECE-891E-44A7-8136-7ACA65F6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7188CA-6DED-488B-AEB7-48DC6241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7AD06B-DE83-466B-872E-B3547604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CD111-73D3-4F75-B8FE-EBB7278E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3BC5A3-A7A9-4892-A612-E474514D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DE12-EC20-4A01-AB09-FFA854FF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7ED2F3-74CD-4F0F-8540-5C2349FB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C4F67E-B57B-4ECE-B79C-45B9653C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B4AC71-7122-4DBD-819B-7F1EAB01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3F42C9-E68F-4F7F-8EDE-2C276425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BBA06B-2E4B-4B88-892B-F4198D1E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575408-BEC6-448D-95A5-D86421CC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7D3CFD-0456-484C-A7FE-9076F8DB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9B0335-FEB4-4FD5-8D75-FE0C238C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D29ED3-DC62-4011-80A5-75B64412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28464D-A9F0-4342-93AE-DDAEBF01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E71A-5062-40C1-A35A-7B1EDDF3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B1DE3D-03B7-4AA4-8C38-6677AD35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1B1917-B77C-4C21-A73A-31E3F46C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6CE045-30B5-4274-8DFB-D2CB2537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A8E17A-5682-4BE6-A199-9657A365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CF47C8-129C-466C-B130-B1C222FD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B7A1BE-7771-4F36-9FC7-5012EFB5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65977A-32B0-432B-B957-49EB70C9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E1F503-D365-4F86-AB2F-AEA763A1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ED7EA1-7BCD-476F-A8F3-F1E7F7A4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E4D3D8-02E3-4764-B0C0-EB612062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5901-5441-4976-B378-7E1CC05F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2E53FF-D92E-4EF2-A5D0-9BF369F0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C19DF5-A321-4005-BDC8-B8107565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F2FE0F-B42F-480A-A016-FFF8336E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0B552C-A7EE-4A98-AD47-AA5EF860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519E0E-7329-4FC1-B615-38A49910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A7E086-EAA0-4EFA-8257-557AD6E4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FA5B1C-FAE4-4AAA-8F01-555E0C09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2F405B-998C-45A2-989F-213D0CCD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BE355A-9142-4584-8F9E-F18725DA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E24C53-F4DD-48DD-9625-5A58C3E3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1A32-6785-4965-9200-9C3EA9AF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C7F6-D0B3-43FD-921D-7276CF8B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097862-642E-41DC-AB33-DC3E5E6B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78D7B0-EF7D-4186-89FF-A181DF2F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CB0871-8981-4A3E-9DB4-2E3B202F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205A6B-1145-4069-8D32-6E7D1733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C8ACB5-E464-45DF-943C-F5491B4D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7F3D-357E-47D2-8C5E-3C84103C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7651-9CAB-46B2-A227-90DB87EF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E2A3-DF53-4575-BB0F-05241A62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A155-6A4D-43A3-B15C-5CF7854F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07CB5-03A8-40BA-8A2A-9351AAAD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BCD33-F371-4686-836F-AC10CF28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7B461-B27B-49E7-BA8C-51F8EB64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7A3FF-28E2-407B-9721-07560DDE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A7FEB-9A06-4EA5-8F0B-C9DEEF9E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C74-36F5-43A2-9D0D-40D085E4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D8E85-A12F-4BE9-818A-1EBE4E24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5F7D5-333F-4068-906B-CBB6048E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D00B3-A0B7-4E3A-8CEB-12F2DC8B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E56F7-0506-45A2-A8AD-8A7FE97F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6ABB7-2170-4F4C-84E7-E8FF4021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11FE9-6FDB-40CC-A1B1-4CB421F5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7FF74-0338-4907-9A96-860D30DF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771EA-8C04-4FA4-9C69-737CEE53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759FE-BE66-41E1-BCF3-653AFD3F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ECF8E-D4E0-4C9C-8454-4B1C659C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0C1A-B9BC-4023-896E-E67647CC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37838-E0DD-44CE-ADC2-86D1D319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3D455-8108-44E4-8BC8-B7AFB6F9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8A76A-2FD8-454F-968E-BE440487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6CDDE-B08B-49CB-838A-A5DADCFA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FB726-79CD-43F2-8BBC-3A414E70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F0454-F827-4776-8A64-E87CDB6B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35690-D2EC-4B27-9F41-7C3A7E2C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EBB02-5C57-4B07-91A0-1130B4B6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C53BD-4A4D-480D-8496-CC3E3010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119DC-B2ED-40A1-ABB4-8B850B15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980-88B8-4A14-A6CD-33F8AE4C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9C803-35AC-47D8-AE2F-A1F30531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8DE32-1260-47D0-8D34-AE9FE6F8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D8BEE-042C-45E6-8E12-2D63D844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6FEBF-8BCE-418F-BC72-AF569538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90C6C-46C3-42AA-847D-4DB92E48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46E2F-F03A-4AA0-A04D-5AD01A4F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7B208-59CB-4223-885C-435DFC9E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3C63C-9A48-4304-8972-3FB0496A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29FC9-6008-4C80-891A-D18A6E0C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54C59-1A13-4726-9F1C-172A530F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0711-D3BD-4A12-B626-F3F0987D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B17EB-71DC-4EAE-B2F1-69C42D50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236C6-7F4D-45E2-937E-DA609C17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14EAC-73BB-43C3-8F45-C3D24E56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05B21-27D1-49F6-8294-A63A13EF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1C2F7-60DC-45B2-9B1F-B6FADA4C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98623-C3E6-4B3B-A6A3-366C5F0E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6A99A-5DA2-4A21-8890-1B8B6F50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1C24B-5D1D-4D69-9EF8-A53C1D6A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BDC0F-240B-4563-A621-3CF9A444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9FA79-C29C-4297-959F-5B1400AD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72F9-E29D-4268-AA6A-E83C2361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EAF9E-128E-43CA-818A-4FCE40DC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93559-3F5F-4398-A89C-9C2E7C62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03291-142E-45DE-95F5-D5F18525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7121D-4C41-4757-AB8B-B401FC6A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5EE56-2BD1-46F0-86F2-660DDC15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FBD8E-2858-4A7E-8D75-1B06B8FD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728F7-9F59-4A73-9F1E-16BFC51E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9C1F9-4CC0-4575-A49A-4A3BD1EF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86983-A710-441C-9E76-3CF479EC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F655D-C6EF-4B16-9493-A78145AE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2074-66CC-42E8-8A9C-CA37A77B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2B78C-A601-4EFB-BFDC-3937F106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52BEC-896E-4844-AD39-F8F9F154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7F4DE-6D93-41D1-92D2-4BF28CE0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68623-C5C0-465B-84C2-38E1DA53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834F4-E95D-4518-860A-30818035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B64FC-2C2E-4E35-87ED-0D7C0B28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E8134-4826-454C-8C57-08D0FA36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2DADE-8D37-487E-ADDE-69079274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F86BF-6661-494F-9776-DFC03591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24948-F11C-4A48-BA99-47E47768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1AD5-E4DD-4D9F-BAE0-13809FB1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AA7AA-B4AF-4CAB-A57A-896D027F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5232B-BD47-4959-A9A5-E915C811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D9EC6-85D7-44D6-9432-C5437963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70251-05A9-4811-A4B5-D0F252AD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7A628-F306-4FF5-877A-3F7C872A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DDB87-F77B-4917-9B38-4BF33A7C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4A911-4EF6-4706-ABDC-1FB1ED78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BF8EC-F01F-4F69-A467-D21608B5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92664-E6F4-4969-A13E-EDF6DD8A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C4037-3F44-424E-8402-55886674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76FE-DF66-40C7-A684-1B16F248C99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E47E-DC3F-4DC8-97C1-E76E99E7FA9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763D-6D2D-43EF-9A40-98A70ACDB67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70FA-A249-457E-8E99-9E047A2FECB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E470-07C8-4858-B968-837209E68D9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8F17-2714-40DB-AA33-F7BEEB08F81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1789-60F1-4935-8B76-D9E96F611C9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D866-E3B3-48CA-B37A-022D44BD6CE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9FF0-6DFE-42E7-A315-E278C8BCB47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BEDD-9334-46F5-A2B8-BD4AD76A502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A062-2DAB-4423-9ED4-328CBEF7A46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863B-3149-44B7-8297-C01486F154D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4207-BFE1-46A7-99D6-FDE39F564DC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5D98-C2DF-4D67-83F7-0B65E10113E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04F0-4B1B-4690-A036-15170CD8A89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554A-7F3B-4AC0-925E-82BBF1176F3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CD33-A564-4A09-AD20-1A33976BBC3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8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8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066680" y="1941120"/>
            <a:ext cx="7848720" cy="354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1800" spc="-1" strike="noStrike">
                <a:solidFill>
                  <a:srgbClr val="7b724f"/>
                </a:solidFill>
                <a:latin typeface="Arial"/>
                <a:ea typeface="Arial"/>
              </a:rPr>
              <a:t>ИНТЕГРИСАНЕ АКАДЕМСКЕ СТУДИЈЕ </a:t>
            </a:r>
            <a:r>
              <a:rPr b="1" lang="sr-RS" sz="2000" spc="-1" strike="noStrike">
                <a:solidFill>
                  <a:srgbClr val="7b724f"/>
                </a:solidFill>
                <a:latin typeface="Arial"/>
                <a:ea typeface="Arial"/>
              </a:rPr>
              <a:t>ФАРМАЦИЈЕ</a:t>
            </a:r>
            <a:br>
              <a:rPr sz="1800"/>
            </a:br>
            <a:r>
              <a:rPr b="1" lang="ru-RU" sz="1800" spc="-1" strike="noStrike">
                <a:solidFill>
                  <a:srgbClr val="766f54"/>
                </a:solidFill>
                <a:latin typeface="Arial"/>
                <a:ea typeface="Arial"/>
              </a:rPr>
              <a:t>КЛИНИЧКА ПРОПЕДЕВТИКА ЗА ФАРМАЦЕУТЕ</a:t>
            </a:r>
            <a:br>
              <a:rPr sz="1800"/>
            </a:br>
            <a:br>
              <a:rPr sz="2000"/>
            </a:br>
            <a:br>
              <a:rPr sz="1800"/>
            </a:br>
            <a:br>
              <a:rPr sz="1800"/>
            </a:br>
            <a:r>
              <a:rPr b="1" lang="sr-CS" sz="2000" spc="-1" strike="noStrike">
                <a:solidFill>
                  <a:srgbClr val="7b724f"/>
                </a:solidFill>
                <a:latin typeface="Arial"/>
                <a:ea typeface="Arial"/>
              </a:rPr>
              <a:t>наставна јединица </a:t>
            </a:r>
            <a:r>
              <a:rPr b="1" lang="en-US" sz="2000" spc="-1" strike="noStrike">
                <a:solidFill>
                  <a:srgbClr val="7b724f"/>
                </a:solidFill>
                <a:latin typeface="Arial"/>
                <a:ea typeface="Arial"/>
              </a:rPr>
              <a:t>8</a:t>
            </a:r>
            <a:br>
              <a:rPr sz="2000"/>
            </a:br>
            <a:br>
              <a:rPr sz="1800"/>
            </a:b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Болести штитасте жлезде </a:t>
            </a:r>
            <a:br>
              <a:rPr sz="2800"/>
            </a:b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Хипертиреоза и хипотиреоза</a:t>
            </a:r>
            <a:br>
              <a:rPr sz="2800"/>
            </a:b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Запаљенски процеси штитасте жлезде</a:t>
            </a:r>
            <a:br>
              <a:rPr sz="3200"/>
            </a:br>
            <a:br>
              <a:rPr sz="49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1434960" y="4247640"/>
            <a:ext cx="7709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000" spc="-1" strike="noStrike">
                <a:solidFill>
                  <a:srgbClr val="595959"/>
                </a:solidFill>
                <a:latin typeface="Arial"/>
                <a:ea typeface="Arial"/>
              </a:rPr>
              <a:t>Доц. др Војислав Ћупурдиј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000" spc="-1" strike="noStrike">
                <a:solidFill>
                  <a:srgbClr val="595959"/>
                </a:solidFill>
                <a:latin typeface="Arial"/>
                <a:ea typeface="Arial"/>
              </a:rPr>
              <a:t>интернист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TRUMA DIFUSA SIMPLEX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9907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Клиничка слика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Појава струме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Компресивни ефекти: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Трахеја (сув, надражајни кашаљ, диспнеја: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Пемберт-ов знак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: погоршање диспнеје код подизања руку, стридор), Једњак (дисфагија), Н. Ре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уренс (промуклост),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Плетора (компресија на вене врата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Дијагноза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Преглед (инспекција и палпација)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Ултразвучни преглед (диф.дг. нодозне и дифузне струме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фТ4, ТСХ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6" name="Picture 4" descr="D:\Documents and Settings\Users\Violeta Mladenovic\Desktop\STRUMA\images0BP12P46.jpg"/>
          <p:cNvPicPr/>
          <p:nvPr/>
        </p:nvPicPr>
        <p:blipFill>
          <a:blip r:embed="rId1"/>
          <a:stretch/>
        </p:blipFill>
        <p:spPr>
          <a:xfrm>
            <a:off x="6705720" y="762120"/>
            <a:ext cx="2219040" cy="159048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6" descr="F:\slike predavanja\images9IRLWSCQ.jpg"/>
          <p:cNvPicPr/>
          <p:nvPr/>
        </p:nvPicPr>
        <p:blipFill>
          <a:blip r:embed="rId2"/>
          <a:stretch/>
        </p:blipFill>
        <p:spPr>
          <a:xfrm>
            <a:off x="5410080" y="5486400"/>
            <a:ext cx="1704960" cy="13716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5" descr="F:\slike predavanja\imagesNVXBN9H8.jpg"/>
          <p:cNvPicPr/>
          <p:nvPr/>
        </p:nvPicPr>
        <p:blipFill>
          <a:blip r:embed="rId3"/>
          <a:stretch/>
        </p:blipFill>
        <p:spPr>
          <a:xfrm>
            <a:off x="7362720" y="5438880"/>
            <a:ext cx="17812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TRUMA NODOSA (uninodosa, pol</a:t>
            </a:r>
            <a:r>
              <a:rPr b="1" i="1" lang="sr-Latn-RS" sz="2800" spc="-1" strike="noStrike">
                <a:solidFill>
                  <a:srgbClr val="ff0000"/>
                </a:solidFill>
                <a:latin typeface="Arial"/>
                <a:ea typeface="Arial"/>
              </a:rPr>
              <a:t>y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odosa)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76176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присуство локализованог увећања ткива штитасте жлезде обично праћена еуметаболизмом (ређе хипер- или хипометаболизам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Патоанатомски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: тумори (моноклонско увећање), хиперцелуларност и/или цистична трансформација, хеморагије, фиброз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Епидемиологиј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: до 12% популације, чешће код жена, инциденца расте са годинама старости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1" name="Picture 4" descr="D:\Documents and Settings\Users\Violeta Mladenovic\Desktop\STRUMA\imagesRBOKJWUB.jpg"/>
          <p:cNvPicPr/>
          <p:nvPr/>
        </p:nvPicPr>
        <p:blipFill>
          <a:blip r:embed="rId1"/>
          <a:stretch/>
        </p:blipFill>
        <p:spPr>
          <a:xfrm>
            <a:off x="6273720" y="4800600"/>
            <a:ext cx="2870280" cy="205740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5" descr="D:\Documents and Settings\Users\Violeta Mladenovic\Desktop\STRUMA\imagesWPBCTOVS.jpg"/>
          <p:cNvPicPr/>
          <p:nvPr/>
        </p:nvPicPr>
        <p:blipFill>
          <a:blip r:embed="rId2"/>
          <a:stretch/>
        </p:blipFill>
        <p:spPr>
          <a:xfrm>
            <a:off x="990720" y="3886200"/>
            <a:ext cx="2514600" cy="297180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6" descr="D:\Documents and Settings\Users\Violeta Mladenovic\Desktop\STRUMA\STR.png"/>
          <p:cNvPicPr/>
          <p:nvPr/>
        </p:nvPicPr>
        <p:blipFill>
          <a:blip r:embed="rId3"/>
          <a:stretch/>
        </p:blipFill>
        <p:spPr>
          <a:xfrm>
            <a:off x="3544920" y="4800600"/>
            <a:ext cx="2722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TRUMA NODOSA (uninodosa, pol</a:t>
            </a:r>
            <a:r>
              <a:rPr b="1" i="1" lang="sr-Latn-RS" sz="2800" spc="-1" strike="noStrike">
                <a:solidFill>
                  <a:srgbClr val="ff0000"/>
                </a:solidFill>
                <a:latin typeface="Arial"/>
                <a:ea typeface="Arial"/>
              </a:rPr>
              <a:t>y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odosa)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761760" y="106632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Клиничка слика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Асимптоматски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Компресивни ефекти на трахеју, нерве ларинкса, једњак, вене врата (нагли бол и увећање сугерише појаву хеморагије у нодус, сумња на малигнитет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Дијагноза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Преглед (инспекција и палпација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Ултразвучни преглед, ређе НМР или ЦТ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Сцинтиграфија штитасте жлезде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ФНАБ </a:t>
            </a:r>
            <a:r>
              <a:rPr b="0" lang="en-US" sz="1200" spc="-1" strike="noStrike">
                <a:solidFill>
                  <a:srgbClr val="404040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аспирациона биопсија танком иглом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6" name="Picture 4" descr="F:\slike predavanja\imagesED9P5D33.jpg"/>
          <p:cNvPicPr/>
          <p:nvPr/>
        </p:nvPicPr>
        <p:blipFill>
          <a:blip r:embed="rId1"/>
          <a:stretch/>
        </p:blipFill>
        <p:spPr>
          <a:xfrm>
            <a:off x="6629400" y="5094360"/>
            <a:ext cx="2352600" cy="1649520"/>
          </a:xfrm>
          <a:prstGeom prst="rect">
            <a:avLst/>
          </a:prstGeom>
          <a:ln w="0">
            <a:noFill/>
          </a:ln>
        </p:spPr>
      </p:pic>
      <p:pic>
        <p:nvPicPr>
          <p:cNvPr id="1217" name="Picture 5" descr="F:\slike predavanja\images2MVGEXBV.jpg"/>
          <p:cNvPicPr/>
          <p:nvPr/>
        </p:nvPicPr>
        <p:blipFill>
          <a:blip r:embed="rId2"/>
          <a:stretch/>
        </p:blipFill>
        <p:spPr>
          <a:xfrm>
            <a:off x="2133720" y="5094360"/>
            <a:ext cx="2124000" cy="165564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6" descr="F:\slike predavanja\imagesRQ8M0MLF.jpg"/>
          <p:cNvPicPr/>
          <p:nvPr/>
        </p:nvPicPr>
        <p:blipFill>
          <a:blip r:embed="rId3"/>
          <a:stretch/>
        </p:blipFill>
        <p:spPr>
          <a:xfrm>
            <a:off x="4419720" y="509112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TRUMA NODOSA (uninodosa, pol</a:t>
            </a:r>
            <a:r>
              <a:rPr b="1" i="1" lang="sr-Latn-RS" sz="2800" spc="-1" strike="noStrike">
                <a:solidFill>
                  <a:srgbClr val="ff0000"/>
                </a:solidFill>
                <a:latin typeface="Arial"/>
                <a:ea typeface="Arial"/>
              </a:rPr>
              <a:t>y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odosa)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99072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Терапија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Процена малигног потенцијала нодус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Примена Лево</a:t>
            </a:r>
            <a:r>
              <a:rPr b="0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тироксина у циљу редукције концентрације ТСХ (не препарата јода јер може довести до Јод-Баседо</a:t>
            </a:r>
            <a:r>
              <a:rPr b="0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в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-љевог ефекта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Примена радиоактивног јод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Хируршко лечењ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21" name="Picture 4" descr="F:\slike predavanja\7.png"/>
          <p:cNvPicPr/>
          <p:nvPr/>
        </p:nvPicPr>
        <p:blipFill>
          <a:blip r:embed="rId1"/>
          <a:stretch/>
        </p:blipFill>
        <p:spPr>
          <a:xfrm>
            <a:off x="7248600" y="4689360"/>
            <a:ext cx="1895400" cy="2168640"/>
          </a:xfrm>
          <a:prstGeom prst="rect">
            <a:avLst/>
          </a:prstGeom>
          <a:ln w="0">
            <a:noFill/>
          </a:ln>
        </p:spPr>
      </p:pic>
      <p:pic>
        <p:nvPicPr>
          <p:cNvPr id="1222" name="Picture 5" descr="F:\slike predavanja\images2DV910QX.jpg"/>
          <p:cNvPicPr/>
          <p:nvPr/>
        </p:nvPicPr>
        <p:blipFill>
          <a:blip r:embed="rId2"/>
          <a:stretch/>
        </p:blipFill>
        <p:spPr>
          <a:xfrm>
            <a:off x="5105520" y="4653000"/>
            <a:ext cx="2133360" cy="220500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6" descr="F:\slike predavanja\imagesBN1FVANN.jpg"/>
          <p:cNvPicPr/>
          <p:nvPr/>
        </p:nvPicPr>
        <p:blipFill>
          <a:blip r:embed="rId3"/>
          <a:stretch/>
        </p:blipFill>
        <p:spPr>
          <a:xfrm>
            <a:off x="3048120" y="4722840"/>
            <a:ext cx="1828800" cy="213516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7" descr="D:\Documents and Settings\Users\Violeta Mladenovic\Desktop\STRUMA\ST.png"/>
          <p:cNvPicPr/>
          <p:nvPr/>
        </p:nvPicPr>
        <p:blipFill>
          <a:blip r:embed="rId4"/>
          <a:stretch/>
        </p:blipFill>
        <p:spPr>
          <a:xfrm>
            <a:off x="1066680" y="4676760"/>
            <a:ext cx="1981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ТИРЕОИДИТИСИ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990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запаљење штитасте жлезд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Подела по току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SzPct val="102909"/>
              <a:buBlip>
                <a:blip r:embed="rId1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Акутни: изазивачи бактерије, вируси, гљиве, радијациј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SzPct val="102909"/>
              <a:buBlip>
                <a:blip r:embed="rId2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Субакутни: окидач запаљења вирус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SzPct val="102909"/>
              <a:buBlip>
                <a:blip r:embed="rId3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Хронични: аутоимунско запаљењ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27" name="Picture 4" descr="D:\Documents and Settings\Users\Violeta Mladenovic\Desktop\STRUMA\imagesCVTOOJZT.jpg"/>
          <p:cNvPicPr/>
          <p:nvPr/>
        </p:nvPicPr>
        <p:blipFill>
          <a:blip r:embed="rId4"/>
          <a:stretch/>
        </p:blipFill>
        <p:spPr>
          <a:xfrm>
            <a:off x="5791320" y="4753080"/>
            <a:ext cx="30477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Акутни тиреоидитис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9907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Ретко, супуративно запаљењ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Узрочници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: бактерије, гљивице, радијација након примене Ј131, лекови (амиодарон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Бол, црвенило и оток у пределу штитасте жлезде, дисфагија, повишена температура и други системски знаци инфекције, позитиван биохуморални синдром запаљења, лимфаденопатиј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Терапија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римен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а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антибиотика и хируршки третман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0" name="Picture 4" descr="D:\Documents and Settings\Users\Violeta Mladenovic\Desktop\STRUMA\images7JRGBXZK.jpg"/>
          <p:cNvPicPr/>
          <p:nvPr/>
        </p:nvPicPr>
        <p:blipFill>
          <a:blip r:embed="rId1"/>
          <a:stretch/>
        </p:blipFill>
        <p:spPr>
          <a:xfrm>
            <a:off x="6858000" y="4724280"/>
            <a:ext cx="2286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Субакутни тиреоидити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d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Quervain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990720" y="9144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Грануломатозно запаљење штитасте жлезде изазвано </a:t>
            </a:r>
            <a:r>
              <a:rPr b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вирусим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(мумпс, 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кокса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ки, инфлуен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ц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а, адено- и еховируси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Болест траје 1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3</a:t>
            </a:r>
            <a:r>
              <a:rPr b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месец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Иницијална фаза (тиреотоксикоза): иницијално деструкција фоликула (уз ослобађање ТГ, Т3 и Т4  и пораст њихове концентрације у плазми – хипертироксинемија),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фаза опоравка уз развој транзиторне хипотиреоз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: Нагло или постепено: мигрирајући бол у врату, повишена температура, системски знаци инфекције, иницијално знаци хипертироксинемије (убрзан рад срца, презнојавање, мршављење, малаксалост), затим хипотиреоз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3" name="Picture 4" descr="D:\Documents and Settings\Users\Violeta Mladenovic\Desktop\STRUMA\imagesO4HLUDKS.jpg"/>
          <p:cNvPicPr/>
          <p:nvPr/>
        </p:nvPicPr>
        <p:blipFill>
          <a:blip r:embed="rId2"/>
          <a:stretch/>
        </p:blipFill>
        <p:spPr>
          <a:xfrm>
            <a:off x="6019920" y="1573200"/>
            <a:ext cx="280008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Субакутни тиреоидити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d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Quervain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7617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Дијагноза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Позитиван биохуморални синдром запаљења (СЕ, ЦРП, фибриноген, леукоцитоза)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Повишене вредности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Т3, Т4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уз супримиран ТСХ,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ниска фиксација Ј131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или Технецијум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        </a:t>
            </a:r>
            <a:r>
              <a:rPr b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Терапија: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-23652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мировање, одмор,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-23652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НСАИЛ (аспирин 500мг на 6 до 8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ч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),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-23652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понекад ГК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С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(40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60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мг код тежих облика болести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-23652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Бета-адренергички блокатори (за контролу симптома тиреотоксикозе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-23652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Левотироксин у случају пролонгиране фазе хипотиреоидизм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Хронични (аутоимунски) тиреоидитис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6854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аутоимунско, орган-специфично запаљење штитасте жлезд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Епидемиологија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: чест поремећај (аутопсијски налаз 20-40%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еутироидних пацијената), 4-10 пута чешћи код жен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Клиничка презентација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Т</a:t>
            </a:r>
            <a:r>
              <a:rPr b="0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и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реоидитис хр. Ха</a:t>
            </a:r>
            <a:r>
              <a:rPr b="0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ш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имото, обично праћен хипотиреоидизмом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Риедел-ов хронични тиреоидитис, обично праћен еутир</a:t>
            </a:r>
            <a:r>
              <a:rPr b="0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е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озом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Хронични тиреоидитис у склопу М.Гравес, обично праћен хипертиреоидизмом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ТУМОРИ ШТИТАСТЕ ЖЛЕЗДЕ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1066320" y="114264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Бенигн</a:t>
            </a:r>
            <a:r>
              <a:rPr b="1" lang="sr-Latn-CS" sz="2200" spc="-1" strike="noStrike">
                <a:solidFill>
                  <a:srgbClr val="ff3300"/>
                </a:solidFill>
                <a:latin typeface="Arial"/>
                <a:ea typeface="Arial"/>
              </a:rPr>
              <a:t>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SzPct val="102909"/>
              <a:buBlip>
                <a:blip r:embed="rId1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Фоликуларни 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деном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Малигн</a:t>
            </a:r>
            <a:r>
              <a:rPr b="1" lang="sr-Latn-CS" sz="2200" spc="-1" strike="noStrike">
                <a:solidFill>
                  <a:srgbClr val="ff3300"/>
                </a:solidFill>
                <a:latin typeface="Arial"/>
                <a:ea typeface="Arial"/>
              </a:rPr>
              <a:t>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de7e18"/>
                </a:solidFill>
                <a:latin typeface="Arial"/>
                <a:ea typeface="Arial"/>
              </a:rPr>
              <a:t>     </a:t>
            </a:r>
            <a:r>
              <a:rPr b="1" lang="sr-Latn-CS" sz="2200" spc="-1" strike="noStrike">
                <a:solidFill>
                  <a:srgbClr val="de7e18"/>
                </a:solidFill>
                <a:latin typeface="Arial"/>
                <a:ea typeface="Arial"/>
              </a:rPr>
              <a:t>Порекла фоликуларних ћелиј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Папилар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ни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Ц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Фоли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к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улар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ни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Ц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Лоше диферентовани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Ц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Недиферентовани Ца (анапластични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Latn-CS" sz="2200" spc="-1" strike="noStrike">
                <a:solidFill>
                  <a:srgbClr val="de7e18"/>
                </a:solidFill>
                <a:latin typeface="Arial"/>
                <a:ea typeface="Arial"/>
              </a:rPr>
              <a:t>Порекла Ц-ћелиј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Медулар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ни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Ц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Latn-CS" sz="2200" spc="-1" strike="noStrike">
                <a:solidFill>
                  <a:srgbClr val="de7e18"/>
                </a:solidFill>
                <a:latin typeface="Arial"/>
                <a:ea typeface="Arial"/>
              </a:rPr>
              <a:t>Примарног нееп</a:t>
            </a:r>
            <a:r>
              <a:rPr b="1" lang="sr-CS" sz="2200" spc="-1" strike="noStrike">
                <a:solidFill>
                  <a:srgbClr val="de7e18"/>
                </a:solidFill>
                <a:latin typeface="Arial"/>
                <a:ea typeface="Arial"/>
              </a:rPr>
              <a:t>и</a:t>
            </a:r>
            <a:r>
              <a:rPr b="1" lang="sr-Latn-CS" sz="2200" spc="-1" strike="noStrike">
                <a:solidFill>
                  <a:srgbClr val="de7e18"/>
                </a:solidFill>
                <a:latin typeface="Arial"/>
                <a:ea typeface="Arial"/>
              </a:rPr>
              <a:t>телног порекл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Л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м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ф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ом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и, сарком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Latn-CS" sz="2200" spc="-1" strike="noStrike">
                <a:solidFill>
                  <a:srgbClr val="de7e18"/>
                </a:solidFill>
                <a:latin typeface="Arial"/>
                <a:ea typeface="Arial"/>
              </a:rPr>
              <a:t>Секундарн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Тироидна жлезда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Смештена испод и испред ларинкс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Има два лобуса повезаних истмусом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Т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и</a:t>
            </a:r>
            <a:r>
              <a:rPr b="0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роид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ни</a:t>
            </a:r>
            <a:r>
              <a:rPr b="0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 фо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ликули</a:t>
            </a:r>
            <a:r>
              <a:rPr b="0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 про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изводе</a:t>
            </a:r>
            <a:r>
              <a:rPr b="0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тироидне хормоне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669960" indent="-3254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Verdana"/>
              <a:buChar char="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Т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ро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кс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ин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или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тетра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ј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одот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ронин (Т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69960" indent="-3254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Verdana"/>
              <a:buChar char="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Три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ј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одот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ронин (Т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69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Оба повећавају интезитет </a:t>
            </a:r>
            <a:r>
              <a:rPr b="1" lang="sr-CS" sz="1900" spc="-1" strike="noStrike">
                <a:solidFill>
                  <a:srgbClr val="404040"/>
                </a:solidFill>
                <a:latin typeface="Arial"/>
                <a:ea typeface="Arial"/>
              </a:rPr>
              <a:t>БМ</a:t>
            </a:r>
            <a:r>
              <a:rPr b="1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, стимулишу синтезу протеина,</a:t>
            </a:r>
            <a:r>
              <a:rPr b="1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повећавају употребу гликозе и масних киселина за продукцију АТП-а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Парафоли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куларне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ћелије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или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Ц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-ћелије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роизводе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к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алцитонин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669960" indent="-3254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Verdana"/>
              <a:buChar char="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Смањује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Ца</a:t>
            </a:r>
            <a:r>
              <a:rPr b="0" lang="en-US" sz="22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2+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у крви тако што инхибира реапсорпцију костију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7" name="Picture 4" descr="F:\slike predavanja\1.png"/>
          <p:cNvPicPr/>
          <p:nvPr/>
        </p:nvPicPr>
        <p:blipFill>
          <a:blip r:embed="rId1"/>
          <a:stretch/>
        </p:blipFill>
        <p:spPr>
          <a:xfrm>
            <a:off x="7315200" y="457200"/>
            <a:ext cx="17114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Карциноми штитасте жлезде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1" name="Text Box 3"/>
          <p:cNvSpPr/>
          <p:nvPr/>
        </p:nvSpPr>
        <p:spPr>
          <a:xfrm>
            <a:off x="1066680" y="1057680"/>
            <a:ext cx="7874280" cy="703800"/>
          </a:xfrm>
          <a:prstGeom prst="rect">
            <a:avLst/>
          </a:prstGeom>
          <a:noFill/>
          <a:ln w="936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e7e18"/>
                </a:solidFill>
                <a:latin typeface="Century"/>
                <a:ea typeface="Arial"/>
              </a:rPr>
              <a:t>Тип тумора</a:t>
            </a:r>
            <a:r>
              <a:rPr b="1" lang="en-US" sz="2000" spc="-1" strike="noStrike">
                <a:solidFill>
                  <a:srgbClr val="de7e18"/>
                </a:solidFill>
                <a:latin typeface="Century"/>
                <a:ea typeface="Arial"/>
              </a:rPr>
              <a:t>       </a:t>
            </a:r>
            <a:r>
              <a:rPr b="1" lang="sr-Latn-CS" sz="2000" spc="-1" strike="noStrike">
                <a:solidFill>
                  <a:srgbClr val="de7e18"/>
                </a:solidFill>
                <a:latin typeface="Century"/>
                <a:ea typeface="Arial"/>
              </a:rPr>
              <a:t>	</a:t>
            </a:r>
            <a:r>
              <a:rPr b="1" lang="sr-Latn-CS" sz="2000" spc="-1" strike="noStrike">
                <a:solidFill>
                  <a:srgbClr val="de7e18"/>
                </a:solidFill>
                <a:latin typeface="Century"/>
                <a:ea typeface="Arial"/>
              </a:rPr>
              <a:t>налаз</a:t>
            </a:r>
            <a:r>
              <a:rPr b="1" lang="en-US" sz="2000" spc="-1" strike="noStrike">
                <a:solidFill>
                  <a:srgbClr val="de7e18"/>
                </a:solidFill>
                <a:latin typeface="Century"/>
                <a:ea typeface="Arial"/>
              </a:rPr>
              <a:t>        </a:t>
            </a:r>
            <a:r>
              <a:rPr b="1" lang="sr-Latn-CS" sz="2000" spc="-1" strike="noStrike">
                <a:solidFill>
                  <a:srgbClr val="de7e18"/>
                </a:solidFill>
                <a:latin typeface="Century"/>
                <a:ea typeface="Arial"/>
              </a:rPr>
              <a:t>метастазе</a:t>
            </a:r>
            <a:r>
              <a:rPr b="1" lang="en-US" sz="2000" spc="-1" strike="noStrike">
                <a:solidFill>
                  <a:srgbClr val="de7e18"/>
                </a:solidFill>
                <a:latin typeface="Century"/>
                <a:ea typeface="Arial"/>
              </a:rPr>
              <a:t>             </a:t>
            </a:r>
            <a:r>
              <a:rPr b="1" lang="sr-Latn-CS" sz="2000" spc="-1" strike="noStrike">
                <a:solidFill>
                  <a:srgbClr val="de7e18"/>
                </a:solidFill>
                <a:latin typeface="Century"/>
                <a:ea typeface="Arial"/>
              </a:rPr>
              <a:t>прогноза</a:t>
            </a:r>
            <a:r>
              <a:rPr b="1" lang="en-US" sz="2000" spc="-1" strike="noStrike">
                <a:solidFill>
                  <a:srgbClr val="de7e18"/>
                </a:solidFill>
                <a:latin typeface="Century"/>
                <a:ea typeface="Arial"/>
              </a:rPr>
              <a:t>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4"/>
          <p:cNvSpPr/>
          <p:nvPr/>
        </p:nvSpPr>
        <p:spPr>
          <a:xfrm>
            <a:off x="990720" y="2215440"/>
            <a:ext cx="8153280" cy="3706200"/>
          </a:xfrm>
          <a:prstGeom prst="rect">
            <a:avLst/>
          </a:prstGeom>
          <a:noFill/>
          <a:ln w="936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апилар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Ца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апиле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Г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одличн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Фол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лар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Ца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Фол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ку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плућ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кост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добр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Медулар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Ца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м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оид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плућ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јетр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лош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напласт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ч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Ца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Гигантске 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дисеминациј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лош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БОЛЕСТИ ШТИТАСТЕ ЖЛЕЗДЕ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SzPct val="102909"/>
              <a:buBlip>
                <a:blip r:embed="rId1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Хиперфункициј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SzPct val="102909"/>
              <a:buBlip>
                <a:blip r:embed="rId2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Хипофункциј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Регулација метаболизм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Тироидеа је под контролом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ХТХ-ХФ осовин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45" name="Picture 4" descr="Thyroid gland"/>
          <p:cNvPicPr/>
          <p:nvPr/>
        </p:nvPicPr>
        <p:blipFill>
          <a:blip r:embed="rId3"/>
          <a:stretch/>
        </p:blipFill>
        <p:spPr>
          <a:xfrm>
            <a:off x="4800600" y="2362320"/>
            <a:ext cx="4343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Text Box 2"/>
          <p:cNvSpPr/>
          <p:nvPr/>
        </p:nvSpPr>
        <p:spPr>
          <a:xfrm>
            <a:off x="1066680" y="246240"/>
            <a:ext cx="78264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ТЕСТОВИ ТИРОИДНЕ ФУНКЦИЈ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3"/>
          <p:cNvSpPr/>
          <p:nvPr/>
        </p:nvSpPr>
        <p:spPr>
          <a:xfrm>
            <a:off x="1295280" y="1814400"/>
            <a:ext cx="74534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 T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3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ерумски TS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стимулациони тес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говор TSH нa TRH IV in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но TSH расте до 30 mIU/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ХИПЕРФУНКЦИЈА ШТИТАСТЕ ЖЛЕЗДЕ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32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sr-Latn-CS" sz="3200" spc="-1" strike="noStrike">
                <a:solidFill>
                  <a:srgbClr val="40404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1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Хипертиреоидизам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 је клиничко с</a:t>
            </a:r>
            <a:r>
              <a:rPr b="0" lang="sl-SI" sz="2400" spc="-1" strike="noStrike">
                <a:solidFill>
                  <a:srgbClr val="404040"/>
                </a:solidFill>
                <a:latin typeface="Arial"/>
                <a:ea typeface="Arial"/>
              </a:rPr>
              <a:t>тање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404040"/>
                </a:solidFill>
                <a:latin typeface="Arial"/>
                <a:ea typeface="Arial"/>
              </a:rPr>
              <a:t>повећане концентрације тироидних хормона у крви настало због њихове повећане продукције у штитастој жлезди и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праћено њиховом повећаном активношћу у периферним ткивима,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при чему секреција тироидних хормона више није под регулаторном контролом хипоталамо-хипофизног система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ЕПИДЕМИОЛОГИЈ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066320" y="11430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Од хипертиреодизма обољева око 0,5% популације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М. 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Graves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је најчешћи узрок хипертиреодизма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(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5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0-80%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пацијенат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)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Жене чешће обољевају од мушкараца (однос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10:1.5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)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ик инциденције у старосној доби од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20-40</a:t>
            </a: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год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Расна расподела: слична инциденција међу белцима и азијатима, док је нижа међу афроамериканцим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Субакутни тиреоидитис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e 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uervain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Грануломатозно запаљење штитасте жлезде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изазвано вирусим (мумпс,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кокса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ки, инфлуенза, адено- и еховируси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Иницијално </a:t>
            </a: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деструкција фоликула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(уз ослобађање ТГ и Т3 и Т4 – хипертироксинемија), затим фаза опоравка уз развој транзиторне хипотиреоз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Бол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, повишена температура, системски знаци инфекције, </a:t>
            </a: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озитиван биохуморални синдром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запаљења, </a:t>
            </a: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ниска фиксација Ј131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, иницијално знаци хипертироксинемије, затим хипотиреоз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Терапија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НСАИЛ, понекад ГК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К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линичка дилем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600" spc="-1" strike="noStrike">
                <a:solidFill>
                  <a:srgbClr val="404040"/>
                </a:solidFill>
                <a:latin typeface="Arial"/>
                <a:ea typeface="Arial"/>
              </a:rPr>
              <a:t>Хиперметаболичко/хиперадренергичко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600" spc="-1" strike="noStrike">
                <a:solidFill>
                  <a:srgbClr val="404040"/>
                </a:solidFill>
                <a:latin typeface="Arial"/>
                <a:ea typeface="Arial"/>
              </a:rPr>
              <a:t>клиничко стање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600" spc="-1" strike="noStrike">
                <a:solidFill>
                  <a:srgbClr val="404040"/>
                </a:solidFill>
                <a:latin typeface="Arial"/>
                <a:ea typeface="Arial"/>
              </a:rPr>
              <a:t>и/или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l-SI" sz="2600" spc="-1" strike="noStrike">
                <a:solidFill>
                  <a:srgbClr val="404040"/>
                </a:solidFill>
                <a:latin typeface="Arial"/>
                <a:ea typeface="Arial"/>
              </a:rPr>
              <a:t>Т</a:t>
            </a:r>
            <a:r>
              <a:rPr b="1" i="1" lang="en-US" sz="2600" spc="-1" strike="noStrike">
                <a:solidFill>
                  <a:srgbClr val="404040"/>
                </a:solidFill>
                <a:latin typeface="Arial"/>
                <a:ea typeface="Arial"/>
              </a:rPr>
              <a:t>hyreotoxicosis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600" spc="-1" strike="noStrike">
                <a:solidFill>
                  <a:srgbClr val="404040"/>
                </a:solidFill>
                <a:latin typeface="Arial"/>
                <a:ea typeface="Arial"/>
              </a:rPr>
              <a:t>и/или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600" spc="-1" strike="noStrike">
                <a:solidFill>
                  <a:srgbClr val="404040"/>
                </a:solidFill>
                <a:latin typeface="Arial"/>
                <a:ea typeface="Arial"/>
              </a:rPr>
              <a:t>Hyperthyreosis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500" spc="-1" strike="noStrike">
                <a:solidFill>
                  <a:srgbClr val="ff0000"/>
                </a:solidFill>
                <a:latin typeface="Arial"/>
                <a:ea typeface="Arial"/>
              </a:rPr>
              <a:t>Хиперметаболичко/хиперадренергичко клиничко стање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0" algn="just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повећање </a:t>
            </a:r>
            <a:r>
              <a:rPr b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базалног метаболизма у физиолошким условима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2227320" indent="-228600" algn="just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након узимања хране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2227320" indent="-228600" algn="just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услед промене климатских услов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2227320" indent="-228600" algn="just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у зависности од узраст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2227320" indent="-228600" algn="just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у трудноћи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2227320" indent="-228600" algn="just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услед физичке активности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2227320" indent="-228600" algn="just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при замору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2227320" indent="-228600" algn="just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услед дејства ендокриних фактора и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2227320" indent="-228600" algn="just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услед активације симпатикуса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507960" indent="0" algn="just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повећање </a:t>
            </a:r>
            <a:r>
              <a:rPr b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базалног метаболизма у патолошким условима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2227320" indent="-228600" algn="just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тиреотоксикоз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2227320" indent="-228600" algn="just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г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розниц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2227320" indent="-228600" algn="just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феохромоцитом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2227320" indent="-228600" algn="just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почетна фаза хипотермије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2227320" indent="-228600" algn="just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тумори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2227320" indent="-228600" algn="just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дијабетесна кетоацидоз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2227320" indent="-228600" algn="just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срчана инсуфицијенциј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74674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ИРЕО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ТО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КСИКОЗ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990720" y="-360"/>
            <a:ext cx="81532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32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sl-SI" sz="3200" spc="-1" strike="noStrike">
                <a:solidFill>
                  <a:srgbClr val="40404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404040"/>
                </a:solidFill>
                <a:latin typeface="Arial"/>
                <a:ea typeface="Arial"/>
              </a:rPr>
              <a:t>Стање повећане концентрације тироидних хормона у крви због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повећане продукције у штитастој жлезди или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ослобађања након разарања штитасте жлезде или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јатрогено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ХИПЕРТИРЕОЗА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lang="sl-SI" sz="2400" spc="-1" strike="noStrike">
                <a:solidFill>
                  <a:srgbClr val="404040"/>
                </a:solidFill>
                <a:latin typeface="Arial"/>
                <a:ea typeface="Arial"/>
              </a:rPr>
              <a:t>Стање повећане концентрације тироидних хормона у крви због њихове повећане продукције у штитастој жлезд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оследице тиреотоксикозе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Пораст базалног метаболизма (катаболизам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Интолеранција топлот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Мршављење упркос добром апетиту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Субфебрилност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Н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е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рво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за, несаница, раздражљивост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Пораст броја адренергичких рецептора (повећана осетљивост на катехоламине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Тахикардиј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Презнојавањ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Дивергентна артеријска хипертензиј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Тремор екстремитет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1"/>
          <p:cNvSpPr/>
          <p:nvPr/>
        </p:nvSpPr>
        <p:spPr>
          <a:xfrm>
            <a:off x="990720" y="380880"/>
            <a:ext cx="815328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5920" indent="-5580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yroxine (tetraiodothyronine,T4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iiodothyronine (T3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днос секреције Т4:T3  je 15:1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4 и T3 се ослобађају и транспортују везани за серумске протеине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yroxine-Binding Globulin (TBG): 75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yroxine-Binding Prealbumin (TBP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bum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зроци ↑TBG: трудноћа, Е, цироза јетре, хепатитис, порфир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зроци ↓TBG: нефротски синдром, хепатична инсуфицијенција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исоке дозе ГКС, протеинска малнутри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кожа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Топл</a:t>
            </a:r>
            <a:r>
              <a:rPr b="0" lang="sr-CS" sz="2400" spc="-1" strike="noStrike">
                <a:solidFill>
                  <a:srgbClr val="404040"/>
                </a:solidFill>
                <a:latin typeface="Arial"/>
                <a:ea typeface="Arial"/>
              </a:rPr>
              <a:t>а, 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Еритематозна (због повећаног протока крви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Мека, сомотаста (смањење кератина)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Влажна (неподношење топлоте)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Он</a:t>
            </a:r>
            <a:r>
              <a:rPr b="0" lang="sr-CS" sz="2400" spc="-1" strike="noStrike">
                <a:solidFill>
                  <a:srgbClr val="40404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хол</a:t>
            </a:r>
            <a:r>
              <a:rPr b="0" lang="sr-CS" sz="2400" spc="-1" strike="noStrike">
                <a:solidFill>
                  <a:srgbClr val="40404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сис 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(меки и лако ломљиви нокти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Прурит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ус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Танка кос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Инфилтратив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на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дермопат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ија (у М. Гравес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Укочен поглед, израз “зурења” и немогућност затварања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очних капака (последица повећане активности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симпатикусног система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очи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  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Знаци тироидне орбитопатије (у М. Гравес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Е</a:t>
            </a:r>
            <a:r>
              <a:rPr b="1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гз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о</a:t>
            </a:r>
            <a:r>
              <a:rPr b="1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ф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талм</a:t>
            </a:r>
            <a:r>
              <a:rPr b="1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у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с</a:t>
            </a: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(проптоза очних јабучица):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Инфлама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ција и задебљање екстраокуларних мишића, орбиталног масног и везивног ткива (чешће код пушача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Смањена функција екстраокуларних мишића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(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д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иплопи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ј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а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Периорбитал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ни и коњунктивални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едем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Осећај “песка у очима” и бола у очим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Корнеалне улцерације (због проптозе и немогућности затварања очних капака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6" name="Picture 4" descr="D:\Documents and Settings\Users\Violeta Mladenovic\Desktop\STRUMA\images31EIRMSN.jpg"/>
          <p:cNvPicPr/>
          <p:nvPr/>
        </p:nvPicPr>
        <p:blipFill>
          <a:blip r:embed="rId1"/>
          <a:stretch/>
        </p:blipFill>
        <p:spPr>
          <a:xfrm>
            <a:off x="6400800" y="4952880"/>
            <a:ext cx="2505240" cy="1667160"/>
          </a:xfrm>
          <a:prstGeom prst="rect">
            <a:avLst/>
          </a:prstGeom>
          <a:ln w="0">
            <a:noFill/>
          </a:ln>
        </p:spPr>
      </p:pic>
      <p:pic>
        <p:nvPicPr>
          <p:cNvPr id="1267" name="Picture 5" descr="D:\Documents and Settings\Users\Violeta Mladenovic\Desktop\STRUMA\imagesBF074QCQ.jpg"/>
          <p:cNvPicPr/>
          <p:nvPr/>
        </p:nvPicPr>
        <p:blipFill>
          <a:blip r:embed="rId2"/>
          <a:stretch/>
        </p:blipFill>
        <p:spPr>
          <a:xfrm>
            <a:off x="4267080" y="4952880"/>
            <a:ext cx="198144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КВС и РС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Тах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икардиј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Систолна 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ХТА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са повећаним пулсним притиском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Пораст 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МВ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(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пораста потреб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е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з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а кисеоником)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СИ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са повећаним минутним волуменом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АФ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(код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0-20% па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цијената, најчешће старијих)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Атријални поремећаји ритм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ХЛК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и кардиомиопатиј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Диспнеја у миру и у напору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Пораст утрошка </a:t>
            </a:r>
            <a:r>
              <a:rPr b="0" i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О</a:t>
            </a:r>
            <a:r>
              <a:rPr b="0" i="1" lang="sr-Latn-CS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и производње 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</a:t>
            </a:r>
            <a:r>
              <a:rPr b="0" i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О</a:t>
            </a:r>
            <a:r>
              <a:rPr b="0" i="1" lang="sr-Latn-CS" sz="20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2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по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кс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еми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ј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а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пер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апн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иј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Слабост респираторних мишић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Смањен капацитет физичке издржљивости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Опструкција трахеје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Егзацербација бронхијалне астме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7b724f"/>
                </a:solidFill>
                <a:latin typeface="Century Gothic"/>
              </a:rPr>
              <a:t> </a:t>
            </a:r>
            <a:br>
              <a:rPr sz="2500"/>
            </a:br>
            <a:br>
              <a:rPr sz="2500"/>
            </a:br>
            <a:r>
              <a:rPr b="1" lang="sr-CS" sz="2900" spc="-1" strike="noStrike">
                <a:solidFill>
                  <a:srgbClr val="ff0000"/>
                </a:solidFill>
                <a:latin typeface="Arial"/>
                <a:ea typeface="Arial"/>
              </a:rPr>
              <a:t>ГИТ</a:t>
            </a:r>
            <a:br>
              <a:rPr sz="2900"/>
            </a:b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1066320" y="6858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Мршављење (због повећане калоригенезе) уз непромењен или појачан апетит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Х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пердефе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кациј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Мала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сорп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ција,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Стеаторе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Х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пер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фагиј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(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код млађих пацијената може довести до краткотрајног пораста телесне масе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Аноре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ксиј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(обично код старијих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Д</a:t>
            </a:r>
            <a:r>
              <a:rPr b="0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с</a:t>
            </a:r>
            <a:r>
              <a:rPr b="0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ф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аги</a:t>
            </a:r>
            <a:r>
              <a:rPr b="0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ј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хе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матопоезни систем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Нормохром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н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нормоц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т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н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анеми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ј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а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овећан серумски феритин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У склопу М. Гравес: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ITP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ернициозна анемиј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урогенитални систем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Чешће уринирне и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но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к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тури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ј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Код деце честа енурез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200" spc="-1" strike="noStrike">
                <a:solidFill>
                  <a:srgbClr val="404040"/>
                </a:solidFill>
                <a:latin typeface="Century Gothic"/>
              </a:rPr>
              <a:t>♀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entury Gothic"/>
              </a:rPr>
              <a:t>↑</a:t>
            </a:r>
            <a:r>
              <a:rPr b="0" lang="en-US" sz="22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SHBG, </a:t>
            </a:r>
            <a:r>
              <a:rPr b="1" lang="en-US" sz="2200" spc="-1" strike="noStrike">
                <a:solidFill>
                  <a:srgbClr val="404040"/>
                </a:solidFill>
                <a:latin typeface="Century Gothic"/>
              </a:rPr>
              <a:t>↑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естрадиол, </a:t>
            </a:r>
            <a:r>
              <a:rPr b="1" lang="en-US" sz="2200" spc="-1" strike="noStrike">
                <a:solidFill>
                  <a:srgbClr val="404040"/>
                </a:solidFill>
                <a:latin typeface="Century Gothic"/>
              </a:rPr>
              <a:t>↓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слободни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естрадиол, </a:t>
            </a:r>
            <a:r>
              <a:rPr b="1" lang="en-US" sz="2200" spc="-1" strike="noStrike">
                <a:solidFill>
                  <a:srgbClr val="404040"/>
                </a:solidFill>
                <a:latin typeface="Century Gothic"/>
              </a:rPr>
              <a:t>↑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LH,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Редукован пик 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LH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средином м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ц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. , Олигоменореа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аменореа, Ановулатор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ни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инфертилит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ет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200" spc="-1" strike="noStrike">
                <a:solidFill>
                  <a:srgbClr val="404040"/>
                </a:solidFill>
                <a:latin typeface="Century Gothic"/>
              </a:rPr>
              <a:t>♂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entury Gothic"/>
              </a:rPr>
              <a:t>↑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SHBG, </a:t>
            </a:r>
            <a:r>
              <a:rPr b="1" lang="en-US" sz="2200" spc="-1" strike="noStrike">
                <a:solidFill>
                  <a:srgbClr val="404040"/>
                </a:solidFill>
                <a:latin typeface="Century Gothic"/>
              </a:rPr>
              <a:t>↑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укупни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тестостерон, </a:t>
            </a:r>
            <a:r>
              <a:rPr b="1" lang="en-US" sz="2200" spc="-1" strike="noStrike">
                <a:solidFill>
                  <a:srgbClr val="404040"/>
                </a:solidFill>
                <a:latin typeface="Century Gothic"/>
              </a:rPr>
              <a:t>↓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слободни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тестостерон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entury Gothic"/>
              </a:rPr>
              <a:t>↑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LH, </a:t>
            </a:r>
            <a:r>
              <a:rPr b="1" lang="en-US" sz="2200" spc="-1" strike="noStrike">
                <a:solidFill>
                  <a:srgbClr val="404040"/>
                </a:solidFill>
                <a:latin typeface="Century Gothic"/>
              </a:rPr>
              <a:t>↑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естрадиол, 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Ginecomastia,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Смањен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либидо,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Еректилна дисфункциј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оремећен спермограм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7b724f"/>
                </a:solidFill>
                <a:latin typeface="Century Gothic"/>
              </a:rPr>
              <a:t> </a:t>
            </a: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7b724f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келетни систем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13716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RS" sz="1900" spc="-1" strike="noStrike">
                <a:solidFill>
                  <a:srgbClr val="404040"/>
                </a:solidFill>
                <a:latin typeface="Century Gothic"/>
              </a:rPr>
              <a:t>↑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Реапсорпција костију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RS" sz="1900" spc="-1" strike="noStrike">
                <a:solidFill>
                  <a:srgbClr val="404040"/>
                </a:solidFill>
                <a:latin typeface="Century Gothic"/>
              </a:rPr>
              <a:t>↑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порозност кортикалне кост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RS" sz="1900" spc="-1" strike="noStrike">
                <a:solidFill>
                  <a:srgbClr val="404040"/>
                </a:solidFill>
                <a:latin typeface="Century Gothic"/>
              </a:rPr>
              <a:t>↓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волумен трабекуларне кост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RS" sz="1900" spc="-1" strike="noStrike">
                <a:solidFill>
                  <a:srgbClr val="404040"/>
                </a:solidFill>
                <a:latin typeface="Century Gothic"/>
              </a:rPr>
              <a:t>↑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остеобласта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RS" sz="1900" spc="-1" strike="noStrike">
                <a:solidFill>
                  <a:srgbClr val="404040"/>
                </a:solidFill>
                <a:latin typeface="Century Gothic"/>
              </a:rPr>
              <a:t>↓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апсорпција и </a:t>
            </a:r>
            <a:r>
              <a:rPr b="1" lang="sr-RS" sz="1900" spc="-1" strike="noStrike">
                <a:solidFill>
                  <a:srgbClr val="404040"/>
                </a:solidFill>
                <a:latin typeface="Century Gothic"/>
              </a:rPr>
              <a:t>↑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 екскреција калцијума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Остеопоро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за и патолошке фрактуре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Тремор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 (испружене руке и језик)</a:t>
            </a:r>
            <a:r>
              <a:rPr b="0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Хиперрефлексија (тетивни рефлекси)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Не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уромускуларни систем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br>
              <a:rPr sz="1700"/>
            </a:br>
            <a:r>
              <a:rPr b="1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Психичке промене: 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хиперактивност, емоционална лабилност, анксиозност, смањена концентрација, несаница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Мишићна слабост: </a:t>
            </a:r>
            <a:r>
              <a:rPr b="0" lang="sr-Latn-CS" sz="1900" spc="-1" strike="noStrike">
                <a:solidFill>
                  <a:srgbClr val="404040"/>
                </a:solidFill>
                <a:latin typeface="Arial"/>
                <a:ea typeface="Arial"/>
              </a:rPr>
              <a:t>проксимална мишићна слабост, смањена мишићна маса и снага (нормализују се тек након 6 месеци)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6" name="Picture 2" descr="C:\Users\Violeta\Desktop\untitled.png"/>
          <p:cNvPicPr/>
          <p:nvPr/>
        </p:nvPicPr>
        <p:blipFill>
          <a:blip r:embed="rId1"/>
          <a:stretch/>
        </p:blipFill>
        <p:spPr>
          <a:xfrm>
            <a:off x="1066680" y="533520"/>
            <a:ext cx="80773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Специфичности М. Гравес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    </a:t>
            </a: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Дифузно увећана тироидеја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, неосетљива на бол, тврд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a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   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   </a:t>
            </a: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Трил и шум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над тироидејом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   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    </a:t>
            </a: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Офталмопатија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(очне манифестације код 50%): осећај “песка у очима”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периорбитал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ни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едем,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к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оњун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к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тивал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ни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едем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и хиперемиј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лоше затварање очних капак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дисфункција екстраокуларних мишић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диплопи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ј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а,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бол при покретању очију и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пропто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з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    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   </a:t>
            </a: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Дерматоакропатија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(манифестације на кожи и удовима код 20%): депозиција гликозаминогликана у кожи и доњим екстремитетима удружени са еритемом и задебљањем кож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ДИЈАГНОЗ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Проверити да ли има </a:t>
            </a:r>
            <a:r>
              <a:rPr b="1" i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симптома и знака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хиперметаболичког клиничког стањ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Прегледом тиреоидеје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проверити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морфолошке карактеристике (дифузна и/или нодозна струма),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да ли има специфичних манифестација М. Гравес и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да ли има елемената за тиреоидитис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Лабораторијска дијагностик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Биохум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синдром запаљења (СЕ, ККС, 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фиб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. и ЦРП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Тиреоидни статус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Морфолошка дијагностика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(ултразвук и сцинтиграфија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ДИЈАГНОЗА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18960" y="99036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909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Маркери аутоимунског процеса: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АнтиТ</a:t>
            </a:r>
            <a:r>
              <a:rPr b="1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SH R</a:t>
            </a:r>
            <a:r>
              <a:rPr b="1" i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А</a:t>
            </a:r>
            <a:r>
              <a:rPr b="1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b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АнтиТ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P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О 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b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АнтиТГ 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b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909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Туморски маркер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Калцитонин (ЦТ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Т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H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Тиреоглобулин (ТГ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1"/>
          <p:cNvSpPr/>
          <p:nvPr/>
        </p:nvSpPr>
        <p:spPr>
          <a:xfrm>
            <a:off x="990720" y="658800"/>
            <a:ext cx="815328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4 се дејодинише на периферији у T3 што чини 80% T3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руги метаболит T4 j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ver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T3 (rT3) који је метаболички инактиван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3 улази у ћелије и везује се за групу нуклеарних рецептора, а затим утиче на многе ћелијске метаболичке ф-је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ормалан ћелијски метаболизам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2" descr="C:\Users\Violeta\Desktop\images.jpg"/>
          <p:cNvPicPr/>
          <p:nvPr/>
        </p:nvPicPr>
        <p:blipFill>
          <a:blip r:embed="rId1"/>
          <a:stretch/>
        </p:blipFill>
        <p:spPr>
          <a:xfrm>
            <a:off x="1143000" y="993600"/>
            <a:ext cx="70866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Хигијенско-дијететски режим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Избегавање теже физичке активности (до увођења у ремисију)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Престанак пушења и избегавање боравка у просторијама са дуванским димом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Неизлагање Сунцу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Забрана конзумирања хране богате јодом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Избегавање боравка у топлим, влажним просторијам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Редукција симптома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-23652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2000" spc="-1" strike="noStrike">
                <a:solidFill>
                  <a:srgbClr val="404040"/>
                </a:solidFill>
                <a:latin typeface="Arial"/>
                <a:ea typeface="Arial"/>
              </a:rPr>
              <a:t>β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-блокатори (у случају да су контраиндиковани-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-23652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a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++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антагонисти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-23652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Седативи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Смањење секреције тиреоидних хормона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-23652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Тиреосупресивни лекови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-23652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Терапијска примена радио Ј</a:t>
            </a:r>
            <a:r>
              <a:rPr b="0" lang="sr-Latn-CS" sz="20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131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-23652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Хируршка интервенциј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0663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Смањење секреције тиреоидних хормона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1. </a:t>
            </a: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Тиреосупресивни леков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2. </a:t>
            </a: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Терапијска примена радио Ј</a:t>
            </a:r>
            <a:r>
              <a:rPr b="1" lang="sr-Latn-CS" sz="22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131: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Токсични аденом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Токсична мултинодуларна струм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М. Гравес (50% пацијената има ризик од погоршања орбитопатије!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3. </a:t>
            </a: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Хируршка интервенција (субтотална тиреидектомија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М. Гравес који не може бити контролисан тиреосупресивим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Токсични аденом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Токсична мултинодуларна струм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/>
          </p:nvPr>
        </p:nvSpPr>
        <p:spPr>
          <a:xfrm>
            <a:off x="1295280" y="12949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остизање ремисије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: 60%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ацијената код којих се спроведе целокупан терапијски циклус (12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18 месеци)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Релапс код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50%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Релапс је чешћи код:Пушач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ацијената који имају позитивна </a:t>
            </a:r>
            <a:r>
              <a:rPr b="1" i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АнтиТ</a:t>
            </a:r>
            <a:r>
              <a:rPr b="1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SH R</a:t>
            </a:r>
            <a:r>
              <a:rPr b="1" i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А</a:t>
            </a:r>
            <a:r>
              <a:rPr b="1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b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на крају терапиј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Доступни тиреосупресивни лекови: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Метимазол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(Тиамазол), лек првог избор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ропилтиоурацил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, резервисан за специфичне клиничке ситуације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ТИРЕОСУПРЕСИВИ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80773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SzPct val="102884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Увођење терапиј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Након потврде да се ради о хипертиреоз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Иницијалне дозе: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ММИ 20-40 мг (1-2 пута дневно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ТУ 300-600 мг (3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4 пута дневно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SzPct val="102909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раћење ефеката терапиј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рва контрола за 6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8 недеља, првих месеци ослонити се на 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f</a:t>
            </a:r>
            <a:r>
              <a:rPr b="0" i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Т4 (Т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SH</a:t>
            </a:r>
            <a:r>
              <a:rPr b="0" i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је супримиран у том периоду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Накнадне контроле на 3 месеца, пратити 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f</a:t>
            </a:r>
            <a:r>
              <a:rPr b="0" i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Т4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и </a:t>
            </a:r>
            <a:r>
              <a:rPr b="0" i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Т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SH</a:t>
            </a:r>
            <a:r>
              <a:rPr b="0" i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Укупно трајање терапије 12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-1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8 месец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SzPct val="102909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одешавање терапиј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Након постизања ремисије (очекује се у прва 3 месеца терапије) редуковати дозу на ниво одржавања: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ММИ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2.5-15 мг (једном д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н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евно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ТУ     100-150мг (два до 3 пута дневно</a:t>
            </a:r>
            <a:r>
              <a:rPr b="0" lang="sr-Latn-CS" sz="1400" spc="-1" strike="noStrike">
                <a:solidFill>
                  <a:srgbClr val="40404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Компликације терапије 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Токсични хепатитис (јавља се само током терапије ПТУ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Агранулоцитоза (може га изазвати и ММИ и ПТУ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Најважнији савет: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у случају развоја изненадне фебрилности и гушобоље одмах проверити ККС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Тиреотоксична криза </a:t>
            </a: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(“олуја”)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066320" y="11430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По живот опасна егзацербација хипертиреоидизма (фебрилност, делиријум, мишићни грчеви, повраћање, дијареја, жутица, кома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Нелечена или непрепозната хипертиреоз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Акутна болест (ЦВИ, АИМ, инфекција, траума, ДКА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200" spc="-1" strike="noStrike">
                <a:solidFill>
                  <a:srgbClr val="404040"/>
                </a:solidFill>
                <a:latin typeface="Arial"/>
                <a:ea typeface="Arial"/>
              </a:rPr>
              <a:t>По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ж</a:t>
            </a:r>
            <a:r>
              <a:rPr b="0" lang="sr-RS" sz="2200" spc="-1" strike="noStrike">
                <a:solidFill>
                  <a:srgbClr val="404040"/>
                </a:solidFill>
                <a:latin typeface="Arial"/>
                <a:ea typeface="Arial"/>
              </a:rPr>
              <a:t>ивот опасна, изненадна хиперактивност тироидее. П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редставља</a:t>
            </a:r>
            <a:r>
              <a:rPr b="0" lang="sr-RS" sz="2200" spc="-1" strike="noStrike">
                <a:solidFill>
                  <a:srgbClr val="404040"/>
                </a:solidFill>
                <a:latin typeface="Arial"/>
                <a:ea typeface="Arial"/>
              </a:rPr>
              <a:t> завршну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фазу континуума: хипертирео</a:t>
            </a:r>
            <a:r>
              <a:rPr b="0" lang="sr-RS" sz="2200" spc="-1" strike="noStrike">
                <a:solidFill>
                  <a:srgbClr val="404040"/>
                </a:solidFill>
                <a:latin typeface="Arial"/>
                <a:ea typeface="Arial"/>
              </a:rPr>
              <a:t>идизам-тиреотоксикоза-тиреотоксична олуја-тироидна олуја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“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200" spc="-1" strike="noStrike">
                <a:solidFill>
                  <a:srgbClr val="ff0000"/>
                </a:solidFill>
                <a:latin typeface="Arial"/>
                <a:ea typeface="Arial"/>
              </a:rPr>
              <a:t>Прогноза: </a:t>
            </a:r>
            <a:r>
              <a:rPr b="0" lang="sr-RS" sz="2200" spc="-1" strike="noStrike">
                <a:solidFill>
                  <a:srgbClr val="404040"/>
                </a:solidFill>
                <a:latin typeface="Arial"/>
                <a:ea typeface="Arial"/>
              </a:rPr>
              <a:t>Раније је морталитет код нелечених пацијената износио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100%</a:t>
            </a:r>
            <a:r>
              <a:rPr b="0" lang="sr-RS" sz="2200" spc="-1" strike="noStrike">
                <a:solidFill>
                  <a:srgbClr val="404040"/>
                </a:solidFill>
                <a:latin typeface="Arial"/>
                <a:ea typeface="Arial"/>
              </a:rPr>
              <a:t>, и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20% </a:t>
            </a:r>
            <a:r>
              <a:rPr b="0" lang="sr-RS" sz="2200" spc="-1" strike="noStrike">
                <a:solidFill>
                  <a:srgbClr val="404040"/>
                </a:solidFill>
                <a:latin typeface="Arial"/>
                <a:ea typeface="Arial"/>
              </a:rPr>
              <a:t>код лечених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. </a:t>
            </a:r>
            <a:r>
              <a:rPr b="0" lang="sr-RS" sz="22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spcAft>
                <a:spcPts val="41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2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0" lang="sr-RS" sz="2200" spc="-1" strike="noStrike">
                <a:solidFill>
                  <a:srgbClr val="404040"/>
                </a:solidFill>
                <a:latin typeface="Arial"/>
                <a:ea typeface="Arial"/>
              </a:rPr>
              <a:t>Актуелно, морталитет је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&lt;5% </a:t>
            </a:r>
            <a:r>
              <a:rPr b="0" lang="sr-RS" sz="2200" spc="-1" strike="noStrike">
                <a:solidFill>
                  <a:srgbClr val="404040"/>
                </a:solidFill>
                <a:latin typeface="Arial"/>
                <a:ea typeface="Arial"/>
              </a:rPr>
              <a:t>код лечених пацијенат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Picture 2" descr="C:\My Photos\endocr19.jpg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90720" y="201600"/>
            <a:ext cx="8097840" cy="5869080"/>
          </a:xfrm>
          <a:prstGeom prst="rect">
            <a:avLst/>
          </a:prstGeom>
          <a:ln w="0">
            <a:noFill/>
          </a:ln>
        </p:spPr>
      </p:pic>
      <p:sp>
        <p:nvSpPr>
          <p:cNvPr id="1296" name="Text Box 3"/>
          <p:cNvSpPr/>
          <p:nvPr/>
        </p:nvSpPr>
        <p:spPr>
          <a:xfrm>
            <a:off x="1143000" y="6116760"/>
            <a:ext cx="7669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1 година-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Graves Diseas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7" name="Picture 2" descr="C:\My Photos\endocr20.jpg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106668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1298" name="Text Box 3"/>
          <p:cNvSpPr/>
          <p:nvPr/>
        </p:nvSpPr>
        <p:spPr>
          <a:xfrm>
            <a:off x="6172200" y="2666880"/>
            <a:ext cx="297180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ретибијални микседем  и четвртасти прст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C:\My Photos\endocr23.jpg"/>
          <p:cNvPicPr/>
          <p:nvPr/>
        </p:nvPicPr>
        <p:blipFill>
          <a:blip r:embed="rId1"/>
          <a:srcRect l="0" t="14400" r="0" b="4800"/>
          <a:stretch/>
        </p:blipFill>
        <p:spPr>
          <a:xfrm>
            <a:off x="990720" y="403200"/>
            <a:ext cx="4876560" cy="6183360"/>
          </a:xfrm>
          <a:prstGeom prst="rect">
            <a:avLst/>
          </a:prstGeom>
          <a:ln w="0">
            <a:noFill/>
          </a:ln>
        </p:spPr>
      </p:pic>
      <p:sp>
        <p:nvSpPr>
          <p:cNvPr id="1300" name="Text Box 3"/>
          <p:cNvSpPr/>
          <p:nvPr/>
        </p:nvSpPr>
        <p:spPr>
          <a:xfrm>
            <a:off x="6019920" y="2590920"/>
            <a:ext cx="312408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ag ophthalmo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од пацијента са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Graves Diseas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2900" spc="-1" strike="noStrike">
                <a:solidFill>
                  <a:srgbClr val="ff0000"/>
                </a:solidFill>
                <a:latin typeface="Arial"/>
                <a:ea typeface="Arial"/>
              </a:rPr>
              <a:t>Контрола секреције тиреоидних хормона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5486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Т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р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е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отропин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ослобађајући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фактор (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хормон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)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(ТР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Ф или ТРХ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)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из хипоталамус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669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669960" indent="-325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Т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ирео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стимул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ишући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хормон (ТСХ)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из аденохипофиз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669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669960" indent="-3254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Стања у којима је повећана потреба за синтезом АТП доводе до пораста секреције тиреоидних хормон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2" name="Picture 4" descr="F:\slike predavanja\4.jpg"/>
          <p:cNvPicPr/>
          <p:nvPr/>
        </p:nvPicPr>
        <p:blipFill>
          <a:blip r:embed="rId1"/>
          <a:stretch/>
        </p:blipFill>
        <p:spPr>
          <a:xfrm>
            <a:off x="6553080" y="1371600"/>
            <a:ext cx="236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1" name="Picture 2" descr="C:\My Photos\endocr24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29528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1302" name="Text Box 3"/>
          <p:cNvSpPr/>
          <p:nvPr/>
        </p:nvSpPr>
        <p:spPr>
          <a:xfrm>
            <a:off x="6248520" y="1219320"/>
            <a:ext cx="159516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other patient with Graves Diseas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Text Box 2"/>
          <p:cNvSpPr/>
          <p:nvPr/>
        </p:nvSpPr>
        <p:spPr>
          <a:xfrm>
            <a:off x="1066680" y="338040"/>
            <a:ext cx="8077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Тиреотоксична криз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3"/>
          <p:cNvSpPr/>
          <p:nvPr/>
        </p:nvSpPr>
        <p:spPr>
          <a:xfrm>
            <a:off x="1066680" y="1066680"/>
            <a:ext cx="8077320" cy="58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грозниц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наруше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ментални статус (узнемирено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онфузија, кома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ахикард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овраћање/дијаре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+/- жутиц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а повећањем тежине олује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перкинез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еми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Емоционал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ес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билно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збуњено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сихоз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апат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оспано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К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м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ћана срчана фреквенца (синусна тахикардија или атријална фибрилација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Text Box 2"/>
          <p:cNvSpPr/>
          <p:nvPr/>
        </p:nvSpPr>
        <p:spPr>
          <a:xfrm>
            <a:off x="1066680" y="397080"/>
            <a:ext cx="80773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Преципитишући фактор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3"/>
          <p:cNvSpPr/>
          <p:nvPr/>
        </p:nvSpPr>
        <p:spPr>
          <a:xfrm>
            <a:off x="1371600" y="1371600"/>
            <a:ext cx="731520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, упала плућ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лућна емболи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КА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орођај/токсемиј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раума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рургиј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Ј 131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ЈКС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бустављање антитироидних леков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Text Box 2"/>
          <p:cNvSpPr/>
          <p:nvPr/>
        </p:nvSpPr>
        <p:spPr>
          <a:xfrm>
            <a:off x="1066680" y="251280"/>
            <a:ext cx="80773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3"/>
          <p:cNvSpPr/>
          <p:nvPr/>
        </p:nvSpPr>
        <p:spPr>
          <a:xfrm>
            <a:off x="1066680" y="1143000"/>
            <a:ext cx="807732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исок проток O2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рзо хлађење  (ако је висока температура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V +/- IV течност код дехидратације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ета блокатор IV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/-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oxi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локатори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канала (АФ)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/- диуретик за С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крити и лечити преципитишући узрок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drocortis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100 mg, PTU 600-900mg P.O или NG, затим 200-300 mg, Јод (&gt;1h након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T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: 1-2g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odium iodid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V, затим 500 mg/12h;  или  20 gt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ХИПОТИРЕОИДИЗАМ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80010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909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Хипотироидизам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 је стање настало као последица недостатка ефеката тироидних хормона, било због њихове смањене продукције или резистенције периферних ткива на њих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100000"/>
              </a:lnSpc>
              <a:spcBef>
                <a:spcPts val="1001"/>
              </a:spcBef>
              <a:buSzPct val="102909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Микседем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 (раније синоним за хипотиреозу) данас се односи на промене коже и поткожног ткива које се виђају код пацијената са тешким обликом хипотиреоз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ЕПИДЕМИОЛОГИЈ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АДУЛТНА ПОПУЛАЦИЈ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Клинички манифестни облик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Око 2% жен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Око 0,1-0,2% мушкарц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Субклинички облик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Око 9,5%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НЕОНАТУС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1 на 3500 новорођених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ЕТИОЛОШКА ПОДЕЛ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КОНГЕНИТАЛН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Аплазија, хипоплазија и ектопија штитасте жлезд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Дефекти у биосинтези и/или дејству хормон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СТЕЧЕН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Аутоимунски тиреоидитис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Тежак дефицит јода у исхран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Аблација тиреоидеје (хируршке интервенције, радијација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МЕДИКАМЕНТОЗН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Јод, ПТУ, ММИ, К-перхлорат, Тиоцијанат, Литијум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ЕТИОПАТОГЕНЕЗ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: </a:t>
            </a:r>
            <a:br>
              <a:rPr sz="2800"/>
            </a:br>
            <a:r>
              <a:rPr b="0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аутоимунски тиреоидитис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Утицај наслеђа на дефектан имунски одговор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Развој аутоимунског процеса (Т-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reg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 лимфоцити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Мора се разорити око 90% тиреоцита да би се развио хипотиреоидизам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Аутоимунски механизм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АнтиМ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ц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 Аб (Анти</a:t>
            </a:r>
            <a:r>
              <a:rPr b="0" i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Т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P</a:t>
            </a:r>
            <a:r>
              <a:rPr b="0" i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О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Аб) – деструкција тироцит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АнтиТГ Аб – деструкција тиреоцит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цитотоксични Т-Л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и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м – апоптоза тиреоцит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НИВО ПОРЕМЕЋАЈ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400" spc="-1" strike="noStrike">
                <a:solidFill>
                  <a:srgbClr val="404040"/>
                </a:solidFill>
                <a:latin typeface="Arial"/>
                <a:ea typeface="Arial"/>
              </a:rPr>
              <a:t>ПРИМАРН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404040"/>
                </a:solidFill>
                <a:latin typeface="Arial"/>
                <a:ea typeface="Arial"/>
              </a:rPr>
              <a:t>Болести штитасте жлезд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400" spc="-1" strike="noStrike">
                <a:solidFill>
                  <a:srgbClr val="404040"/>
                </a:solidFill>
                <a:latin typeface="Arial"/>
                <a:ea typeface="Arial"/>
              </a:rPr>
              <a:t>СЕКУНДАРН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404040"/>
                </a:solidFill>
                <a:latin typeface="Arial"/>
                <a:ea typeface="Arial"/>
              </a:rPr>
              <a:t>Болести хипофиз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400" spc="-1" strike="noStrike">
                <a:solidFill>
                  <a:srgbClr val="404040"/>
                </a:solidFill>
                <a:latin typeface="Arial"/>
                <a:ea typeface="Arial"/>
              </a:rPr>
              <a:t>ТЕРЦИЈАЛН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404040"/>
                </a:solidFill>
                <a:latin typeface="Arial"/>
                <a:ea typeface="Arial"/>
              </a:rPr>
              <a:t>Болести хипоталамус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9" name="AutoShape 4"/>
          <p:cNvSpPr/>
          <p:nvPr/>
        </p:nvSpPr>
        <p:spPr>
          <a:xfrm>
            <a:off x="4267080" y="3352680"/>
            <a:ext cx="1524240" cy="2590920"/>
          </a:xfrm>
          <a:custGeom>
            <a:avLst/>
            <a:gdLst>
              <a:gd name="textAreaLeft" fmla="*/ 0 w 1524240"/>
              <a:gd name="textAreaRight" fmla="*/ 550440 w 152424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de7e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5"/>
          <p:cNvSpPr/>
          <p:nvPr/>
        </p:nvSpPr>
        <p:spPr>
          <a:xfrm>
            <a:off x="5638680" y="4343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de7e18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de7e18"/>
                </a:solidFill>
                <a:latin typeface="Arial"/>
                <a:ea typeface="Arial"/>
              </a:rPr>
              <a:t>централни</a:t>
            </a:r>
            <a:r>
              <a:rPr b="0" lang="sl-SI" sz="2800" spc="-1" strike="noStrike">
                <a:solidFill>
                  <a:srgbClr val="de7e18"/>
                </a:solidFill>
                <a:latin typeface="Arial"/>
                <a:ea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СЕКУНДАРНИ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И </a:t>
            </a:r>
            <a:r>
              <a:rPr b="1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ТЕРЦИЈАЛНИ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ХИПОТИРОИДИЗАМ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457200" y="1523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23" name="Picture 4" descr="Primary and secondary hypothyroidism"/>
          <p:cNvPicPr/>
          <p:nvPr/>
        </p:nvPicPr>
        <p:blipFill>
          <a:blip r:embed="rId1"/>
          <a:stretch/>
        </p:blipFill>
        <p:spPr>
          <a:xfrm>
            <a:off x="1066680" y="1447920"/>
            <a:ext cx="75438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БОЛЕСТИ ШТИТАСТЕ ЖЛЕЗДЕ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106632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600" spc="-1" strike="noStrike">
                <a:solidFill>
                  <a:srgbClr val="ff0000"/>
                </a:solidFill>
                <a:latin typeface="Arial"/>
                <a:ea typeface="Arial"/>
              </a:rPr>
              <a:t>Поремећаји морфологије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Агенезија, аплазија, хипоплазија и ектопиј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Струма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1900" spc="-1" strike="noStrike">
                <a:solidFill>
                  <a:srgbClr val="404040"/>
                </a:solidFill>
                <a:latin typeface="Arial"/>
                <a:ea typeface="Arial"/>
              </a:rPr>
              <a:t>Дифузна струма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1900" spc="-1" strike="noStrike">
                <a:solidFill>
                  <a:srgbClr val="404040"/>
                </a:solidFill>
                <a:latin typeface="Arial"/>
                <a:ea typeface="Arial"/>
              </a:rPr>
              <a:t>Нодозна струма (уни и полинодозна)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600" spc="-1" strike="noStrike">
                <a:solidFill>
                  <a:srgbClr val="ff0000"/>
                </a:solidFill>
                <a:latin typeface="Arial"/>
                <a:ea typeface="Arial"/>
              </a:rPr>
              <a:t>Поремећаји функције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1900" spc="-1" strike="noStrike">
                <a:solidFill>
                  <a:srgbClr val="404040"/>
                </a:solidFill>
                <a:latin typeface="Arial"/>
                <a:ea typeface="Arial"/>
              </a:rPr>
              <a:t>Хиперфункиција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1900" spc="-1" strike="noStrike">
                <a:solidFill>
                  <a:srgbClr val="404040"/>
                </a:solidFill>
                <a:latin typeface="Arial"/>
                <a:ea typeface="Arial"/>
              </a:rPr>
              <a:t>Хипофункција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600" spc="-1" strike="noStrike">
                <a:solidFill>
                  <a:srgbClr val="ff0000"/>
                </a:solidFill>
                <a:latin typeface="Arial"/>
                <a:ea typeface="Arial"/>
              </a:rPr>
              <a:t>Запаљења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1900" spc="-1" strike="noStrike">
                <a:solidFill>
                  <a:srgbClr val="404040"/>
                </a:solidFill>
                <a:latin typeface="Arial"/>
                <a:ea typeface="Arial"/>
              </a:rPr>
              <a:t>Акутна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1900" spc="-1" strike="noStrike">
                <a:solidFill>
                  <a:srgbClr val="404040"/>
                </a:solidFill>
                <a:latin typeface="Arial"/>
                <a:ea typeface="Arial"/>
              </a:rPr>
              <a:t>Субакутна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1900" spc="-1" strike="noStrike">
                <a:solidFill>
                  <a:srgbClr val="404040"/>
                </a:solidFill>
                <a:latin typeface="Arial"/>
                <a:ea typeface="Arial"/>
              </a:rPr>
              <a:t>Хронична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ФАКТОРИ РИЗИК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1219320" y="16765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Доб (старији од 50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пол: женск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гојазност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Операција тироиде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Зрачење вратне региј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99072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ПРЕЗЕНТАЦИЈА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АСИМПТОМАТСКИ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 (и до 80% пацијената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“</a:t>
            </a: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СИВА ЗОНА”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Непотпуна клиничка слик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Неспецифична симптоматологиј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Парадокслана симптоматологија (несанаица, појачана раздражљивост, хиперактивност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РАЗВИЈЕНА КЛИНИЧКА СЛИК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ПРЕЗЕНТАЦИЈ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2209680" y="14475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ОПШТИ СИМПТОМИ И ЗНАЦ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Симптом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Зимогрожљивост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Умор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Добијање у ТМ уз смањење апетит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Знац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хипотермиј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/>
          </p:nvPr>
        </p:nvSpPr>
        <p:spPr>
          <a:xfrm>
            <a:off x="1142640" y="228240"/>
            <a:ext cx="8001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НЕРВ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Н</a:t>
            </a: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И СИСТЕМ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Симптом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Л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етаргиј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поремећаји памћењ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поремећаји пажње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промена карактер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Знац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Сомноленциј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Церебеларна атаксиј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.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Оштећење чула слуха и укус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Психопатолошки поремећаји (параноидна или депресивна реакција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НЕУРОМИШИЋНИ СИСТЕМ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Симптом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Слабост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Мишићни грчеви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Болови у зглобовим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Знац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Успорена релаксација дубоких тетивних рефлекс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Синдром карпалног тунел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/>
          </p:nvPr>
        </p:nvSpPr>
        <p:spPr>
          <a:xfrm>
            <a:off x="990720" y="-360"/>
            <a:ext cx="81532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ГАСТРОИНТЕСТИНАЛНИ СИСТЕМ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Симптом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-236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Мучнина</a:t>
            </a:r>
            <a:r>
              <a:rPr b="0" lang="sr-R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Затвор</a:t>
            </a:r>
            <a:r>
              <a:rPr b="0" lang="sr-R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Метеоризам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Знац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-236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Увећање језика</a:t>
            </a:r>
            <a:r>
              <a:rPr b="0" lang="sr-R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Асцитес</a:t>
            </a:r>
            <a:r>
              <a:rPr b="0" lang="sr-R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Успорена перисталтик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-236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RS" sz="2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sr-RS" sz="2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sr-RS" sz="2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R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sr-R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sr-R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1600" spc="-1" strike="noStrike">
                <a:solidFill>
                  <a:srgbClr val="ff0000"/>
                </a:solidFill>
                <a:latin typeface="Arial"/>
                <a:ea typeface="Arial"/>
              </a:rPr>
              <a:t>РЕПРОДУКТИВНИ СИСТЕМ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-236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Смањен либидо</a:t>
            </a:r>
            <a:r>
              <a:rPr b="0" lang="sr-R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Смањена фертилност (олигоспермија, ановулација)</a:t>
            </a:r>
            <a:r>
              <a:rPr b="0" lang="sr-R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Поремећаји менструационог циклус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(хиперменореја)</a:t>
            </a:r>
            <a:r>
              <a:rPr b="0" lang="sr-R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Галактореја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80773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КАРДИОРЕСПИРАТОРНИ СИСТЕМ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Симптом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Интолеранција напор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Гушење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Знац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Промуклост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Брадикардиј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Умерена хипертензиј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Перикардна ефузиј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Плеурална ефузиј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Сни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жена волтаж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Синусна брадикардиј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Перикардна ефузиј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/>
          </p:nvPr>
        </p:nvSpPr>
        <p:spPr>
          <a:xfrm>
            <a:off x="990720" y="0"/>
            <a:ext cx="81532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ff0000"/>
                </a:solidFill>
                <a:latin typeface="Arial"/>
                <a:ea typeface="Arial"/>
              </a:rPr>
              <a:t>КОЖ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Симптоми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-23652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Сува, хладна, перутава кожа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Надутост лица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Губитак косе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Крти нокти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Знаци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-23652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Еластични едеми лица, руку и подколеница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Периорбитални едеми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Хладна кожа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Бледо-жута кожа (анемија+хиперкаротинемија)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Суве аксиле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Промене косе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ff0000"/>
                </a:solidFill>
                <a:latin typeface="Arial"/>
                <a:ea typeface="Arial"/>
              </a:rPr>
              <a:t>ХЕМАТОЛОШКЕ ПРОМЕНЕ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-23652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Умерена нормоцитна, нормохромна анемиј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-23652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Микроцитна, хипохромна анемиј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-23652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Пернициозна анемиј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sl-SI" sz="2000" spc="-1" strike="noStrike">
                <a:solidFill>
                  <a:srgbClr val="ff0000"/>
                </a:solidFill>
                <a:latin typeface="Arial"/>
                <a:ea typeface="Arial"/>
              </a:rPr>
              <a:t>БИОХЕМИЈСКЕ ПРОМЕНЕ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Метаболизма гликозе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Смањена деградација инсулина (повећана осетљивост на егзогени инсулин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Метаболизма липида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Пораст фосфолипида, </a:t>
            </a:r>
            <a:r>
              <a:rPr b="1" lang="en-US" sz="20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укупни </a:t>
            </a:r>
            <a:r>
              <a:rPr b="1" lang="sl-SI" sz="20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Хол</a:t>
            </a:r>
            <a:r>
              <a:rPr b="1" lang="en-US" sz="20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естерол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, ЛДЛ, ТАГ и снижен ХДЛ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Ензимски профил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sl-SI" sz="2000" spc="-1" strike="noStrike">
                <a:solidFill>
                  <a:srgbClr val="404040"/>
                </a:solidFill>
                <a:latin typeface="Arial"/>
                <a:ea typeface="Arial"/>
              </a:rPr>
              <a:t>Пораст ензима скелетних мишића: ЦПК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/>
          </p:nvPr>
        </p:nvSpPr>
        <p:spPr>
          <a:xfrm>
            <a:off x="990720" y="0"/>
            <a:ext cx="81532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МИКСЕДЕМСКА КОМ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Завршни стадијум тешког, дуготрајног и нелеченог хипотиреоидизм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100000"/>
              </a:lnSpc>
              <a:spcBef>
                <a:spcPts val="1001"/>
              </a:spcBef>
              <a:spcAft>
                <a:spcPts val="41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spcAft>
                <a:spcPts val="414"/>
              </a:spcAft>
              <a:buClr>
                <a:srgbClr val="ffff0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Дешава се код 0.1% случајева хипотироидизма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Врло редак код особа &lt;50 година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50% случајева постаје евидентно тек са хоспитализацијом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Морталитет је 100% код нелечених, 50% код лечених пац.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Најчешће се презентује зими (изложеност хладноћи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6397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КОМПЛИКАЦИЈЕ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10663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Симптоми и знаци обухватају: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ниску т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успорено дисањ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хипотензију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хипогликемију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неадекватан одговор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Депресиј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Срчана слабост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Повећан ризик за инфекцију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Инфертилитет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Побачај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Компликације услед предозирања супституционом терапијом: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Атријална фибрилација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Остеопороза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Симптоми хипертироидизм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SzPct val="102909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Text Box 2"/>
          <p:cNvSpPr/>
          <p:nvPr/>
        </p:nvSpPr>
        <p:spPr>
          <a:xfrm>
            <a:off x="1066680" y="-93600"/>
            <a:ext cx="80773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ПРЕЦИПИТИШУЋИ ФАКТОР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3"/>
          <p:cNvSpPr/>
          <p:nvPr/>
        </p:nvSpPr>
        <p:spPr>
          <a:xfrm>
            <a:off x="1219320" y="1523880"/>
            <a:ext cx="7624800" cy="42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8080" indent="-2080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злагање хладноћ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неумониј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У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раум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ЦНС депресор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аркотиц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Барбитурати, транкилизер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пшти анестетици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Цереброваскуларни акцидент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Конгестивна С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СТРУМА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10663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СТРУМА (гушавост) је увећање штитасте жлезде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Подела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Дифузн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Нодуларна (уни или мултинодуларна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2884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Етиологија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Дефекти у биосинтези хормон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Дефицит јод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Запаљења (акутна, субакутна и хронична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Тумори штитасте жлезд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7" name="Picture 5" descr="D:\Documents and Settings\Users\Violeta Mladenovic\Desktop\STRUMA\imagesDVGDMBPZ.jpg"/>
          <p:cNvPicPr/>
          <p:nvPr/>
        </p:nvPicPr>
        <p:blipFill>
          <a:blip r:embed="rId2"/>
          <a:stretch/>
        </p:blipFill>
        <p:spPr>
          <a:xfrm>
            <a:off x="7467480" y="4648320"/>
            <a:ext cx="13716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Text Box 2"/>
          <p:cNvSpPr/>
          <p:nvPr/>
        </p:nvSpPr>
        <p:spPr>
          <a:xfrm>
            <a:off x="395280" y="679320"/>
            <a:ext cx="8748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3"/>
          <p:cNvSpPr/>
          <p:nvPr/>
        </p:nvSpPr>
        <p:spPr>
          <a:xfrm>
            <a:off x="1447920" y="304920"/>
            <a:ext cx="769608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Типична презентација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обичајени симптоми и знаци хипотироидизма плус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 (80% случајева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Хипотензија/брадикардиј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хиповентилација/респираторна слабос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леус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нижен ментални статус/ком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Text Box 2"/>
          <p:cNvSpPr/>
          <p:nvPr/>
        </p:nvSpPr>
        <p:spPr>
          <a:xfrm>
            <a:off x="1143000" y="267120"/>
            <a:ext cx="8001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УРГЕНТНА ТЕРАПИЈ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3"/>
          <p:cNvSpPr/>
          <p:nvPr/>
        </p:nvSpPr>
        <p:spPr>
          <a:xfrm>
            <a:off x="1295280" y="1295280"/>
            <a:ext cx="76201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tubation/ventilation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 гликемију, +/- IV D50  +/-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aloxon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drocortis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100-250 mg IVP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поро загревање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yrox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T4) 500 mcg IV, затим 50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cg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одати 25 mcg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iiodothyroni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(T3) P.O. или NG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ажљива IV надокнада течности (СИ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14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ратити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треба да опадне за 24h и нормализује за 7 дан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3" name="Picture 2" descr="C:\My Photos\thyroid17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66680" y="228600"/>
            <a:ext cx="4881600" cy="6294600"/>
          </a:xfrm>
          <a:prstGeom prst="rect">
            <a:avLst/>
          </a:prstGeom>
          <a:ln w="0">
            <a:noFill/>
          </a:ln>
        </p:spPr>
      </p:pic>
      <p:sp>
        <p:nvSpPr>
          <p:cNvPr id="1344" name="Text Box 3"/>
          <p:cNvSpPr/>
          <p:nvPr/>
        </p:nvSpPr>
        <p:spPr>
          <a:xfrm>
            <a:off x="6019920" y="2389320"/>
            <a:ext cx="3124080" cy="37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yxоedemа com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ДИЈАГНОЗА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1447920" y="13716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фТ4 и ТСХ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Маркери аутоимунског процеса (</a:t>
            </a:r>
            <a:r>
              <a:rPr b="1" i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АнтиТ</a:t>
            </a:r>
            <a:r>
              <a:rPr b="1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P</a:t>
            </a:r>
            <a:r>
              <a:rPr b="1" i="1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О А</a:t>
            </a:r>
            <a:r>
              <a:rPr b="1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b</a:t>
            </a: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Ултразвучни преглед штитасте жлезд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Допунска дијагностика: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Анализе крви (ККС, гликемија, липидограм, биохуморални синдром некрозе миоцита, азотне материје у крв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Тестирање кардиоваскуларне функције (ЕКГ, Ртг пулмо, Ултразвучни преглед срца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ДИФЕРЕНЦИЈАЛНА ДИЈАГНОЗ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Хронична бубрежна инсуфицијенциј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Психијатријски поремећаји у старијих особ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Пернициозна анемија у старијих особ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Конгестивна срчана инсуфицијенциј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ЛЕК ИЗБОР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129528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L-thyroxin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(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L</a:t>
            </a:r>
            <a:r>
              <a:rPr b="0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Т4 - синтет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и</a:t>
            </a:r>
            <a:r>
              <a:rPr b="0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чки лeвотирoксин) је лeк избора za лечeњe и примарног и секундарног (“централног“) хипoтиреоидизм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Апсорбује се до 80% унете доз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Главно место апсорпције је дуоденум (20%), горњи (40%) и доњи (40%) јејунум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рисуство хране може знатно да умањи апсорпцију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909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ЛЕК ИЗБОР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1066320" y="12952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Таблета се узима цела, неподељена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ујутру, наштину, најмање 30-60 мин пре првог дневног оброк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Лек се у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з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има са водом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а други лекови тек после 2 сат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Најни</a:t>
            </a: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ж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а доза која олакшава симптоме и доводи до нормализације резултат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Током увођења терапије упозорити пацијента на могуће </a:t>
            </a:r>
            <a:r>
              <a:rPr b="1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споредне ефекте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: палпитације, узнемиреност, поремећај сна, главобоље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До постизања циљних вредности, контролисати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f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Т4 и Т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H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на 6</a:t>
            </a:r>
            <a:r>
              <a:rPr b="0" lang="sr-C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8 недеља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Корекције дозе се врше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на 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25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cg</a:t>
            </a: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Arial"/>
              </a:rPr>
              <a:t> левотироксин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ФАКТОРИ КОЈИ УТИЧУ НА АПСОРПЦИЈУ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репарати калцијума, алуминијума и гвожђа смањују апсорпцију ЛТ4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ротеини из соје смањују апсорпцију ЛТ4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Кафа смањује апсорпцију ЛТ4 за 32%</a:t>
            </a:r>
            <a:r>
              <a:rPr b="1" lang="sr-Latn-CS" sz="22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*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Болести желуца праћене хипоацидитетом (ХБП инфекција, атрофични гастритис, примена Х-блокатора) и малапсорптивни синдром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Витамин Ц у дози од 1г повећава апсорпцију ЛТ4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ЦИЉ ТЕРАПИЈЕ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1828800" y="16765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4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lang="sr-CS" sz="24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Примарни хипотиреоидизам</a:t>
            </a:r>
            <a:r>
              <a:rPr b="0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: вредности </a:t>
            </a:r>
            <a:r>
              <a:rPr b="0" i="1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Т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SH</a:t>
            </a:r>
            <a:r>
              <a:rPr b="0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 у референтним опсезима (идеално 1.0-2.5 мИУ/мЛ) уз потпуно повлачење клиничких симптома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1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Секундарни хипотиреоидизам</a:t>
            </a:r>
            <a:r>
              <a:rPr b="0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: постизање вредности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f</a:t>
            </a:r>
            <a:r>
              <a:rPr b="0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Т4 у референтним опсезима (идеално на половини распона референтних ведности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sr-Latn-CS" sz="2900" spc="-1" strike="noStrike">
                <a:solidFill>
                  <a:srgbClr val="ff0000"/>
                </a:solidFill>
                <a:latin typeface="Arial"/>
                <a:ea typeface="Arial"/>
              </a:rPr>
              <a:t>УВОЂЕЊЕ И ПОДЕШАВАЊЕ ТЕРАПИЈЕ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990720" y="155700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Када се постигне адекватна супституција, доза је код већине пацијената константна и обично нису потребне веће корекциј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Код неких особа постоје сезонске варијације у дозирању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L</a:t>
            </a:r>
            <a:r>
              <a:rPr b="0" i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thyroxine</a:t>
            </a:r>
            <a:r>
              <a:rPr b="0" i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је лек са малом терапијском ширином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ДИФУЗНА СТРУМ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99072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увећање штитасте жлезде у целини уз одсуство нодуса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Подела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Праћена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нормалном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функцијом штитасте жлезде (еутироидна, нетоксична или 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Struma diffusa simplex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Праћена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дисфункцијом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штитасте жлезд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Хипотиреоидизмом (нпр. у 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Thyreoiditis chr. Hashimoto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Хиперфункцијом (нпр. у М.Гравес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0" name="Picture 4" descr="D:\Documents and Settings\Users\Violeta Mladenovic\Desktop\STRUMA\imagesQ3TT6FWV.jpg"/>
          <p:cNvPicPr/>
          <p:nvPr/>
        </p:nvPicPr>
        <p:blipFill>
          <a:blip r:embed="rId1"/>
          <a:stretch/>
        </p:blipFill>
        <p:spPr>
          <a:xfrm>
            <a:off x="6566040" y="5334120"/>
            <a:ext cx="257796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900" spc="-1" strike="noStrike">
                <a:solidFill>
                  <a:srgbClr val="ff0000"/>
                </a:solidFill>
                <a:latin typeface="Arial"/>
                <a:ea typeface="Arial"/>
              </a:rPr>
              <a:t>Хипотиреоидиз</a:t>
            </a:r>
            <a:r>
              <a:rPr b="1" lang="en-US" sz="29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sr-Latn-CS" sz="2900" spc="-1" strike="noStrike">
                <a:solidFill>
                  <a:srgbClr val="ff0000"/>
                </a:solidFill>
                <a:latin typeface="Arial"/>
                <a:ea typeface="Arial"/>
              </a:rPr>
              <a:t>м и инвазивне процедуре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1314000" y="1599840"/>
            <a:ext cx="782964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Нелечен или недовољно лечен хипотиреоидизам није апсолутна контраиндикација за: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Коронарну ангиопластику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Коронар</a:t>
            </a:r>
            <a:r>
              <a:rPr b="0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ну бај-пас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хирургију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Ургентне хируршке интервенције (са елективним интервенција треба сачекати до постизања супституције)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СТАРИЈА ПОПУЛАЦИЈА И ОСОБЕ СА ИСХЕМИЈСКОМ БОЛЕШЋУ СРЦ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Иницијална доза је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25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мц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г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дневно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Доза се повећава у временским интервалима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2-3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недеље у инкрементима од 12.5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-25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мц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г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200" spc="-1" strike="noStrike">
                <a:solidFill>
                  <a:srgbClr val="404040"/>
                </a:solidFill>
                <a:latin typeface="Arial"/>
                <a:ea typeface="Arial"/>
              </a:rPr>
              <a:t>Хипотиреоза је подмукла болест која се развија полако, навикава и пацијента и његову околину на своје постојање, сурово отупљује пацијента, а све их уљуљкује у незаинтересованост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5" name="Picture 2" descr="C:\My Photos\thyroid13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66680" y="91440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366" name="Text Box 3"/>
          <p:cNvSpPr/>
          <p:nvPr/>
        </p:nvSpPr>
        <p:spPr>
          <a:xfrm>
            <a:off x="179280" y="3789360"/>
            <a:ext cx="4248360" cy="26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7" name="Picture 2" descr="C:\My Photos\thyroid14.jpg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5057640" y="914400"/>
            <a:ext cx="4086360" cy="4343400"/>
          </a:xfrm>
          <a:prstGeom prst="rect">
            <a:avLst/>
          </a:prstGeom>
          <a:ln w="0">
            <a:noFill/>
          </a:ln>
        </p:spPr>
      </p:pic>
      <p:sp>
        <p:nvSpPr>
          <p:cNvPr id="1368" name="Rectangle 4"/>
          <p:cNvSpPr/>
          <p:nvPr/>
        </p:nvSpPr>
        <p:spPr>
          <a:xfrm>
            <a:off x="5105520" y="57913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ti pacijent posle 6 meseci terapije sa L thyroxin-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5"/>
          <p:cNvSpPr/>
          <p:nvPr/>
        </p:nvSpPr>
        <p:spPr>
          <a:xfrm>
            <a:off x="1219320" y="556272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0 godina, sa malaksalošću i alopecijom, FT4 0.2, TSH&gt; 7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ТРУДНОЋА И ХИПОТИРЕОИДИЗАМ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44%</a:t>
            </a:r>
            <a:r>
              <a:rPr b="1" lang="sr-CS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404040"/>
                </a:solidFill>
                <a:latin typeface="Arial"/>
                <a:ea typeface="Arial"/>
              </a:rPr>
              <a:t>жена са хипотиреоидизмом је  престало да узима супституциону терапију након сазнања да су трудне (неке по савету здравствених професионалаца!)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0" algn="r">
              <a:spcBef>
                <a:spcPts val="1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0" algn="r">
              <a:spcBef>
                <a:spcPts val="1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ТРУДНОЋА И ХИПОТИРЕОИДИЗАМ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Жене са хипотиреоидизмом у репродуктивном периоду треба едуковати о трудноћи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Трудноћа код њих треба да буде планирана и у тренутку концепције супституција мора бити одлична (Т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SH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&lt;2.5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mIU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/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mL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, по неким ауторима 0,5-1.0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mIU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/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mL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)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Сваки, чак и субклинички хипотиреоидизам мајке може да утиче на неурокогнитивне функције потомстваУ трудноћи се доза </a:t>
            </a:r>
            <a:r>
              <a:rPr b="1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L</a:t>
            </a:r>
            <a:r>
              <a:rPr b="1" i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1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thyroxine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-а повећава за 25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50%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0" algn="r">
              <a:spcBef>
                <a:spcPts val="1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0" algn="r">
              <a:spcBef>
                <a:spcPts val="1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ТРУДНОЋ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Контрола тиреоидног статуса у трудноћи је почетком сваког триместр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Након порођаја доза 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L</a:t>
            </a:r>
            <a:r>
              <a:rPr b="0" i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thyroxine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-а се враћа на вредности пре трудноће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Након порођаја контрола тиреоидног статуса врши се након 6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8 недељ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Код свих трудница (са и без анамнезе о болести штитасте жлезде) треба проверити тиреоидну функцију у првом тромесечју трудноћ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990720" y="64008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r-Latn-CS" sz="1200" spc="-1" strike="noStrike">
                <a:solidFill>
                  <a:srgbClr val="7b724f"/>
                </a:solidFill>
                <a:latin typeface="Arial"/>
                <a:ea typeface="Arial"/>
              </a:rPr>
              <a:t>  </a:t>
            </a:r>
            <a:r>
              <a:rPr b="0" i="1" lang="en-US" sz="1200" spc="-1" strike="noStrike">
                <a:solidFill>
                  <a:srgbClr val="7b724f"/>
                </a:solidFill>
                <a:latin typeface="Arial"/>
                <a:ea typeface="Arial"/>
              </a:rPr>
              <a:t>DeGroot LJ, Abalovich M, Erik K, et al. Management of thyroid dysfunction during pregnancy and postpartum: an </a:t>
            </a:r>
            <a:r>
              <a:rPr b="0" i="1" lang="sr-Latn-CS" sz="1200" spc="-1" strike="noStrike">
                <a:solidFill>
                  <a:srgbClr val="7b724f"/>
                </a:solidFill>
                <a:latin typeface="Arial"/>
                <a:ea typeface="Arial"/>
              </a:rPr>
              <a:t>    </a:t>
            </a:r>
            <a:r>
              <a:rPr b="0" i="1" lang="en-US" sz="1200" spc="-1" strike="noStrike">
                <a:solidFill>
                  <a:srgbClr val="7b724f"/>
                </a:solidFill>
                <a:latin typeface="Arial"/>
                <a:ea typeface="Arial"/>
              </a:rPr>
              <a:t>Endocrine Society clinical practice guideline. J Clin Endocrinol Metab </a:t>
            </a:r>
            <a:r>
              <a:rPr b="0" i="1" lang="sr-CS" sz="1200" spc="-1" strike="noStrike">
                <a:solidFill>
                  <a:srgbClr val="7b724f"/>
                </a:solidFill>
                <a:latin typeface="Century Gothic"/>
                <a:ea typeface="Arial"/>
              </a:rPr>
              <a:t>97:2543-2565,2012</a:t>
            </a:r>
            <a:r>
              <a:rPr b="0" i="1" lang="sr-CS" sz="1200" spc="-1" strike="noStrike">
                <a:solidFill>
                  <a:srgbClr val="7b724f"/>
                </a:solidFill>
                <a:latin typeface="Century Gothic"/>
              </a:rPr>
              <a:t>.</a:t>
            </a:r>
            <a:r>
              <a:rPr b="0" i="1" lang="en-US" sz="1200" spc="-1" strike="noStrike">
                <a:solidFill>
                  <a:srgbClr val="7b724f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77" name=""/>
          <p:cNvGraphicFramePr/>
          <p:nvPr/>
        </p:nvGraphicFramePr>
        <p:xfrm>
          <a:off x="1066680" y="228600"/>
          <a:ext cx="8077320" cy="6172200"/>
        </p:xfrm>
        <a:graphic>
          <a:graphicData uri="http://schemas.openxmlformats.org/drawingml/2006/table">
            <a:tbl>
              <a:tblPr/>
              <a:tblGrid>
                <a:gridCol w="8077320"/>
              </a:tblGrid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Препорука за циљано тестирање тироидне функције у преконцепцијском периоду, или у раној трудноћи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 marL="682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Жене старије од</a:t>
                      </a:r>
                      <a:r>
                        <a:rPr b="1" lang="sr-Latn-R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30 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дин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  <a:tr h="433440">
                <a:tc>
                  <a:txBody>
                    <a:bodyPr lIns="68760" rIns="68760" tIns="0" bIns="0" anchor="t">
                      <a:noAutofit/>
                    </a:bodyPr>
                    <a:p>
                      <a:pPr marL="682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Жене са породичном анамнезом АИТБ или хипотироидизм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 marL="682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стојање струм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  <a:tr h="433440">
                <a:tc>
                  <a:txBody>
                    <a:bodyPr lIns="68760" rIns="68760" tIns="0" bIns="0" anchor="t">
                      <a:noAutofit/>
                    </a:bodyPr>
                    <a:p>
                      <a:pPr marL="682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зитивна тироидна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t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посебно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POAt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  <a:tr h="463680">
                <a:tc>
                  <a:txBody>
                    <a:bodyPr lIns="68760" rIns="68760" tIns="0" bIns="0" anchor="t">
                      <a:noAutofit/>
                    </a:bodyPr>
                    <a:p>
                      <a:pPr marL="682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имптоми или клинички знаци поремећаја функције тироиде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  <a:tr h="433080">
                <a:tc>
                  <a:txBody>
                    <a:bodyPr lIns="68760" rIns="68760" tIns="0" bIns="0" anchor="t">
                      <a:noAutofit/>
                    </a:bodyPr>
                    <a:p>
                      <a:pPr marL="682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Жене са ДМ1 или другим аутоимунским болестима</a:t>
                      </a:r>
                      <a:r>
                        <a:rPr b="1" lang="sr-Latn-R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 marL="682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фертилите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  <a:tr h="433440">
                <a:tc>
                  <a:txBody>
                    <a:bodyPr lIns="68760" rIns="68760" tIns="0" bIns="0" anchor="t">
                      <a:noAutofit/>
                    </a:bodyPr>
                    <a:p>
                      <a:pPr marL="682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Жене са анамнезом претходних побачаја и превременим порођајем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  <a:tr h="693720">
                <a:tc>
                  <a:txBody>
                    <a:bodyPr lIns="68760" rIns="68760" tIns="0" bIns="0" anchor="t">
                      <a:noAutofit/>
                    </a:bodyPr>
                    <a:p>
                      <a:pPr marL="682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Жене са претходном радиотерапијом врата или оп.тироиде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 marL="682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Жене које су на супституционој терапији Л-тироксином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  <a:tr h="433440">
                <a:tc>
                  <a:txBody>
                    <a:bodyPr lIns="68760" rIns="68760" tIns="0" bIns="0" anchor="t">
                      <a:noAutofit/>
                    </a:bodyPr>
                    <a:p>
                      <a:pPr marL="682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Жене које живе у јод дефицитним подручјим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990720" y="685440"/>
            <a:ext cx="815328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     </a:t>
            </a: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Недавне студије су показале да у око 95% трудница без АИТБ вредност ТСХ 0.03-2.5 мИУ/Л. </a:t>
            </a:r>
            <a:br>
              <a:rPr sz="1700"/>
            </a:b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Експерти препоручују следеће триместар специфичне референтне вредности за ТСХ током трудноће: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        </a:t>
            </a:r>
            <a:r>
              <a:rPr b="1" lang="sr-Latn-RS" sz="17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1" lang="sr-Latn-CS" sz="1700" spc="-1" strike="noStrike">
                <a:solidFill>
                  <a:srgbClr val="404040"/>
                </a:solidFill>
                <a:latin typeface="Arial"/>
                <a:ea typeface="Arial"/>
              </a:rPr>
              <a:t>0.1</a:t>
            </a:r>
            <a:r>
              <a:rPr b="1" lang="sr-CS" sz="17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1" lang="sr-Latn-CS" sz="1700" spc="-1" strike="noStrike">
                <a:solidFill>
                  <a:srgbClr val="404040"/>
                </a:solidFill>
                <a:latin typeface="Arial"/>
                <a:ea typeface="Arial"/>
              </a:rPr>
              <a:t>2.5 mIU/L (</a:t>
            </a:r>
            <a:r>
              <a:rPr b="1" lang="sr-CS" sz="1700" spc="-1" strike="noStrike">
                <a:solidFill>
                  <a:srgbClr val="404040"/>
                </a:solidFill>
                <a:latin typeface="Arial"/>
                <a:ea typeface="Arial"/>
              </a:rPr>
              <a:t>1. </a:t>
            </a:r>
            <a:r>
              <a:rPr b="1" lang="sr-Latn-CS" sz="1700" spc="-1" strike="noStrike">
                <a:solidFill>
                  <a:srgbClr val="404040"/>
                </a:solidFill>
                <a:latin typeface="Arial"/>
                <a:ea typeface="Arial"/>
              </a:rPr>
              <a:t>trimestar</a:t>
            </a:r>
            <a:r>
              <a:rPr b="1" lang="sr-CS" sz="1700" spc="-1" strike="noStrike">
                <a:solidFill>
                  <a:srgbClr val="404040"/>
                </a:solidFill>
                <a:latin typeface="Arial"/>
                <a:ea typeface="Arial"/>
              </a:rPr>
              <a:t>)</a:t>
            </a:r>
            <a:r>
              <a:rPr b="1" lang="sr-Latn-CS" sz="17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2" marL="88596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2" marL="88596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Latn-CS" sz="1700" spc="-1" strike="noStrike">
                <a:solidFill>
                  <a:srgbClr val="404040"/>
                </a:solidFill>
                <a:latin typeface="Arial"/>
                <a:ea typeface="Arial"/>
              </a:rPr>
              <a:t>0.2</a:t>
            </a:r>
            <a:r>
              <a:rPr b="1" lang="sr-CS" sz="17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1" lang="sr-Latn-CS" sz="1700" spc="-1" strike="noStrike">
                <a:solidFill>
                  <a:srgbClr val="404040"/>
                </a:solidFill>
                <a:latin typeface="Arial"/>
                <a:ea typeface="Arial"/>
              </a:rPr>
              <a:t>3.0</a:t>
            </a:r>
            <a:r>
              <a:rPr b="1" i="1" lang="sr-Latn-CS" sz="1700" spc="-1" strike="noStrike">
                <a:solidFill>
                  <a:srgbClr val="404040"/>
                </a:solidFill>
                <a:latin typeface="Arial"/>
                <a:ea typeface="Arial"/>
              </a:rPr>
              <a:t>mIU/L </a:t>
            </a:r>
            <a:r>
              <a:rPr b="1" lang="sr-Latn-CS" sz="1700" spc="-1" strike="noStrike">
                <a:solidFill>
                  <a:srgbClr val="404040"/>
                </a:solidFill>
                <a:latin typeface="Arial"/>
                <a:ea typeface="Arial"/>
              </a:rPr>
              <a:t>(2. trimestar) 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2" marL="88596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2" marL="88596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Latn-CS" sz="1700" spc="-1" strike="noStrike">
                <a:solidFill>
                  <a:srgbClr val="404040"/>
                </a:solidFill>
                <a:latin typeface="Arial"/>
                <a:ea typeface="Arial"/>
              </a:rPr>
              <a:t>0.3</a:t>
            </a:r>
            <a:r>
              <a:rPr b="1" lang="sr-CS" sz="17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1" lang="sr-Latn-CS" sz="1700" spc="-1" strike="noStrike">
                <a:solidFill>
                  <a:srgbClr val="404040"/>
                </a:solidFill>
                <a:latin typeface="Arial"/>
                <a:ea typeface="Arial"/>
              </a:rPr>
              <a:t>3.0</a:t>
            </a:r>
            <a:r>
              <a:rPr b="1" i="1" lang="sr-Latn-CS" sz="1700" spc="-1" strike="noStrike">
                <a:solidFill>
                  <a:srgbClr val="404040"/>
                </a:solidFill>
                <a:latin typeface="Arial"/>
                <a:ea typeface="Arial"/>
              </a:rPr>
              <a:t>mIU/L</a:t>
            </a:r>
            <a:r>
              <a:rPr b="1" lang="sr-Latn-CS" sz="1700" spc="-1" strike="noStrike">
                <a:solidFill>
                  <a:srgbClr val="404040"/>
                </a:solidFill>
                <a:latin typeface="Arial"/>
                <a:ea typeface="Arial"/>
              </a:rPr>
              <a:t> (3. trimestar)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2" marL="88596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88596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16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88596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CS" sz="16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r-Latn-CS" sz="900" spc="-1" strike="noStrike">
                <a:solidFill>
                  <a:srgbClr val="7030a0"/>
                </a:solidFill>
                <a:latin typeface="Arial"/>
                <a:ea typeface="Arial"/>
              </a:rPr>
              <a:t>          </a:t>
            </a:r>
            <a:r>
              <a:rPr b="1" i="1" lang="sr-Latn-CS" sz="1100" spc="-1" strike="noStrike">
                <a:solidFill>
                  <a:srgbClr val="7030a0"/>
                </a:solidFill>
                <a:latin typeface="Arial"/>
                <a:ea typeface="Arial"/>
              </a:rPr>
              <a:t>Allan WC, Haddow JE, Palomaki GE, Williams JR, Mitchell ML, Hermos RJ, et al.Maternal thyroid deficiency and pregnancy complications: implications forpopulation screening. J Med Screen 2000;7(3):127–30</a:t>
            </a:r>
            <a:r>
              <a:rPr b="1" lang="sr-Latn-CS" sz="1100" spc="-1" strike="noStrike">
                <a:solidFill>
                  <a:srgbClr val="7030a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9" name="Frame 3"/>
          <p:cNvSpPr/>
          <p:nvPr/>
        </p:nvSpPr>
        <p:spPr>
          <a:xfrm>
            <a:off x="2895480" y="2133720"/>
            <a:ext cx="4648320" cy="2743200"/>
          </a:xfrm>
          <a:custGeom>
            <a:avLst/>
            <a:gdLst/>
            <a:ahLst/>
            <a:rect l="l" t="t" r="r" b="b"/>
            <a:pathLst>
              <a:path w="4648200" h="2743200">
                <a:moveTo>
                  <a:pt x="0" y="0"/>
                </a:moveTo>
                <a:lnTo>
                  <a:pt x="4648200" y="0"/>
                </a:lnTo>
                <a:lnTo>
                  <a:pt x="4648200" y="2743200"/>
                </a:lnTo>
                <a:lnTo>
                  <a:pt x="0" y="2743200"/>
                </a:lnTo>
                <a:lnTo>
                  <a:pt x="0" y="0"/>
                </a:lnTo>
                <a:close/>
                <a:moveTo>
                  <a:pt x="330007" y="330007"/>
                </a:moveTo>
                <a:lnTo>
                  <a:pt x="330007" y="2413193"/>
                </a:lnTo>
                <a:lnTo>
                  <a:pt x="4318193" y="2413193"/>
                </a:lnTo>
                <a:lnTo>
                  <a:pt x="4318193" y="330007"/>
                </a:lnTo>
                <a:lnTo>
                  <a:pt x="330007" y="330007"/>
                </a:lnTo>
                <a:close/>
              </a:path>
            </a:pathLst>
          </a:custGeom>
          <a:solidFill>
            <a:srgbClr val="b4bcaa"/>
          </a:solidFill>
          <a:ln cap="rnd" w="9360">
            <a:solidFill>
              <a:srgbClr val="6d80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СУПРЕСИВНА ТЕРАПИЈА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L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thyroxine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-ом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8153280" cy="36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Примењује се након хируршких и радиотерапијских процедура у лечењу диферентованих тумора штитасте жлезд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Супресивна доза </a:t>
            </a:r>
            <a:r>
              <a:rPr b="1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L</a:t>
            </a:r>
            <a:r>
              <a:rPr b="1" i="1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1" i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thyroxine 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-а омогућава одржавање вредности Т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SH</a:t>
            </a:r>
            <a:r>
              <a:rPr b="0" lang="sr-Latn-CS" sz="2200" spc="-1" strike="noStrike">
                <a:solidFill>
                  <a:srgbClr val="404040"/>
                </a:solidFill>
                <a:latin typeface="Arial"/>
                <a:ea typeface="Arial"/>
              </a:rPr>
              <a:t> испод могућности лабораторијске детекције (обично &lt;0.1мИУ/мЛ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TRUMA DIFUSA SIMPLEX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76176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увећање штитасте жлезде у целини уз одсуство нодуса при чему је функција штитасте жлезде нормална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Епидемиологиј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: око 10% популације, однос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ж:м=8:1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,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Подел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Ендемск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: &gt;10% становништва има струму, подручја са недовољном количином Ј (дневне потребе су 100-150µг јода, недостатак јода ако је дневна екскреција Ј урином &lt;10µг/дЛ)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Не</a:t>
            </a:r>
            <a:r>
              <a:rPr b="1" lang="sr-CS" sz="2200" spc="-1" strike="noStrike">
                <a:solidFill>
                  <a:srgbClr val="404040"/>
                </a:solidFill>
                <a:latin typeface="Arial"/>
                <a:ea typeface="Arial"/>
              </a:rPr>
              <a:t>ен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демска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(обично непознатог узрока): бх поремећаји у синтези тир. хормона (транспорт Ј, синтеза ТГ), експозиција струмогенима (тиоцијанати из поврћа - купус)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3" name="Picture 5" descr="D:\Documents and Settings\Users\Violeta Mladenovic\Desktop\STRUMA\imagesLGCOK62Z.jpg"/>
          <p:cNvPicPr/>
          <p:nvPr/>
        </p:nvPicPr>
        <p:blipFill>
          <a:blip r:embed="rId1"/>
          <a:stretch/>
        </p:blipFill>
        <p:spPr>
          <a:xfrm>
            <a:off x="6477120" y="2438280"/>
            <a:ext cx="24382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6:05:40Z</dcterms:created>
  <dc:creator>Bill Gates</dc:creator>
  <dc:description/>
  <dc:language>en-US</dc:language>
  <cp:lastModifiedBy>Vojislav</cp:lastModifiedBy>
  <dcterms:modified xsi:type="dcterms:W3CDTF">2020-01-27T00:07:01Z</dcterms:modified>
  <cp:revision>202</cp:revision>
  <dc:subject/>
  <dc:title>PATOLOŠKA FIZIOLOGIJA ENDOKRINOG SISTEMA</dc:title>
</cp:coreProperties>
</file>